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289-8968-463D-8A70-B52FE978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886-9328-4CC9-9CB3-1AFE3856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B58-C9F1-4E49-BCA5-607290D5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C9C-D641-4F5C-9071-69FC2911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CC42-E373-4D38-93B6-100C150A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9E44-01F2-4E9D-9B94-807C0AD4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3A13-9103-4696-8131-EFD1BEB0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2E25-5262-4E08-9501-70ED00C1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B5F6-CB0E-4CFB-B6AB-32B5C1D1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9003-6C51-404D-8D8A-3CDE3367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D76B-0D79-49D0-82D7-12860B5B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CCC8-1910-4049-B9DB-E842175F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1A39-BFE7-43C5-816F-291FCFEF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E128-8DA6-4C6F-AFF6-764CC7D3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46F8-0FC7-4F35-8D15-AC1B9536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156F-2A08-47FA-99A2-AAB4BEA3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0898-6556-4906-8D91-51390F4F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939-4073-4C90-8CAF-1B4C6155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0B6-6096-43D7-8B6D-E5A130FE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EDB-8727-4A8A-BF8A-BE85387C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B03-43D7-42F6-853F-A23CF6BF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191-4F0C-429C-ABF4-0881CFF4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F97-9D06-4577-AB2A-60E23402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CEF-10D3-4E8B-A8FF-A051D289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A524-4B70-4814-9553-8209B7873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1ECE-CD81-44E0-BA27-01DF6AA00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440" y="609480"/>
            <a:ext cx="8015400" cy="24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Оперативна програм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RBACT 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7 – 201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5960" y="3648240"/>
            <a:ext cx="745812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2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Тематични приоритети</a:t>
            </a:r>
            <a:br>
              <a:rPr sz="28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на ос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Атрактивни и сближени град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5640" y="1162080"/>
            <a:ext cx="8305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тегрирано развитие на изостанали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айони и райони в риск от изоставане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работване на дългосрочни съгласувани планове за различните фактори, насърчаващи устойчив растеж и създаване на работни места в градските райони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радско възстановяван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обилизиране на ключовите партньори – частният сектор, общности и НПО, както и местни, регионални и национални вла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крепа на микро- и малки предприятия; дребномащабни заеми и микрокреди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ъзстановяване на изоставени индустриални зони и обновяване на обществени зони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они на икономически възможно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оциална интег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Жилищна поли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мигранти и етнически малцин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лади хора и дец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венство на половет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обряване на социалните услуги (здравно обслужване и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растване на сигурността за гражданит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мографски въпрос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ултурен сек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Тематични приоритети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иоритетна ос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1800" y="1304640"/>
            <a:ext cx="77184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Въпроси, свързани с околната сре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ранспорт, достъпност и мобилнос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остъп до услуги и удоб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родна и физическа среда (управление на отпадъците, чистота на въздуха, качество на водата и водоснабдяване, възобновяеми енергийни източници, използване на рециклиране, наблюдение на околната сред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ултурно насле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мяна на клима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Управление и градско планира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радско планира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риториално управление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Участие на гражданите в процесите на управление и планира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ектите по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RBACT II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едва да включват елементи от двете приоритетни оси с цел осигуряване и насърчаване на интегриран под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7880" y="9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уктура на програма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URBACT II 2007-2013</a:t>
            </a: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30320" y="946080"/>
            <a:ext cx="7419960" cy="5256360"/>
            <a:chOff x="1030320" y="946080"/>
            <a:chExt cx="7419960" cy="5256360"/>
          </a:xfrm>
        </p:grpSpPr>
        <p:sp>
          <p:nvSpPr>
            <p:cNvPr id="111" name=""/>
            <p:cNvSpPr/>
            <p:nvPr/>
          </p:nvSpPr>
          <p:spPr>
            <a:xfrm>
              <a:off x="1030320" y="1235160"/>
              <a:ext cx="7419960" cy="496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30320" y="946080"/>
              <a:ext cx="7416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73240" y="9460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По приоритетни оси              </a:t>
              </a:r>
              <a:r>
                <a:rPr b="1" lang="bg-BG" sz="1400" spc="-1" strike="noStrike">
                  <a:solidFill>
                    <a:srgbClr val="800080"/>
                  </a:solidFill>
                  <a:latin typeface="Arial"/>
                </a:rPr>
                <a:t>Операция          и           Инструмен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16160" y="1567080"/>
              <a:ext cx="1800000" cy="11890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ff0000"/>
                  </a:solidFill>
                  <a:latin typeface="Arial"/>
                </a:rPr>
                <a:t>Приоритетна ос 1: Градовете – двигатели на растежа и създаването на работни мест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6160" y="3151080"/>
              <a:ext cx="1855800" cy="6415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ff0000"/>
                  </a:solidFill>
                  <a:latin typeface="Arial"/>
                </a:rPr>
                <a:t>Приоритетна ос 2 : Атрактивни и сближени градов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6160" y="4907160"/>
              <a:ext cx="1954080" cy="459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ff0000"/>
                  </a:solidFill>
                  <a:latin typeface="Arial"/>
                </a:rPr>
                <a:t>Приоритетна ос 3 : Техническа помощ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49960" y="1522440"/>
              <a:ext cx="2055600" cy="57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65960" y="1666800"/>
              <a:ext cx="164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3366"/>
                  </a:solidFill>
                  <a:latin typeface="Arial"/>
                </a:rPr>
                <a:t>Тематични мреж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49960" y="2170080"/>
              <a:ext cx="2055600" cy="57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37240" y="2314800"/>
              <a:ext cx="164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3366"/>
                  </a:solidFill>
                  <a:latin typeface="Arial"/>
                </a:rPr>
                <a:t>Работни груп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78320" y="2819520"/>
              <a:ext cx="2233800" cy="863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94320" y="2890800"/>
              <a:ext cx="2305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3366"/>
                  </a:solidFill>
                  <a:latin typeface="Arial"/>
                </a:rPr>
                <a:t>Инструменти за капитализиране (</a:t>
              </a:r>
              <a:r>
                <a:rPr b="0" lang="bg-BG" sz="1000" spc="-1" strike="noStrike">
                  <a:solidFill>
                    <a:srgbClr val="003366"/>
                  </a:solidFill>
                  <a:latin typeface="Arial"/>
                </a:rPr>
                <a:t>тематични центрове, тематични експерти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000" spc="-1" strike="noStrike">
                  <a:solidFill>
                    <a:srgbClr val="003366"/>
                  </a:solidFill>
                  <a:latin typeface="Arial"/>
                </a:rPr>
                <a:t>             </a:t>
              </a:r>
              <a:r>
                <a:rPr b="0" lang="bg-BG" sz="1000" spc="-1" strike="noStrike">
                  <a:solidFill>
                    <a:srgbClr val="003366"/>
                  </a:solidFill>
                  <a:latin typeface="Arial"/>
                </a:rPr>
                <a:t>проучвания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78320" y="3754440"/>
              <a:ext cx="2055960" cy="57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4320" y="3898800"/>
              <a:ext cx="164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3366"/>
                  </a:solidFill>
                  <a:latin typeface="Arial"/>
                </a:rPr>
                <a:t>Fast Track мреж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32160" y="1811520"/>
              <a:ext cx="1468440" cy="86364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76520" y="1954440"/>
              <a:ext cx="1513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0000"/>
                  </a:solidFill>
                  <a:latin typeface="Arial"/>
                </a:rPr>
                <a:t>Операция 1 : Обмяна на оп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0000"/>
                  </a:solidFill>
                  <a:latin typeface="Arial"/>
                </a:rPr>
                <a:t>и зна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05240" y="3322800"/>
              <a:ext cx="1468440" cy="86364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76520" y="3467160"/>
              <a:ext cx="151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0000"/>
                  </a:solidFill>
                  <a:latin typeface="Arial"/>
                </a:rPr>
                <a:t>Операция 2 : Капитализиран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05240" y="4619520"/>
              <a:ext cx="1566720" cy="86364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76520" y="4691160"/>
              <a:ext cx="1764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0000"/>
                  </a:solidFill>
                  <a:latin typeface="Arial"/>
                </a:rPr>
                <a:t>Операция 3 : Комуникация и разпростране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78320" y="4402080"/>
              <a:ext cx="2808360" cy="10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23040" y="4546800"/>
              <a:ext cx="28083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3366"/>
                  </a:solidFill>
                  <a:latin typeface="Arial"/>
                </a:rPr>
                <a:t>Инструменти за комуникация и   разпространение </a:t>
              </a:r>
              <a:r>
                <a:rPr b="0" lang="bg-BG" sz="1000" spc="-1" strike="noStrike">
                  <a:solidFill>
                    <a:srgbClr val="003366"/>
                  </a:solidFill>
                  <a:latin typeface="Arial"/>
                </a:rPr>
                <a:t>(интернет страница, годишна конференция, публикации, тематични регионални конференции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49960" y="5627880"/>
              <a:ext cx="208908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81600" y="5699160"/>
              <a:ext cx="164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3366"/>
                  </a:solidFill>
                  <a:latin typeface="Arial"/>
                </a:rPr>
                <a:t>Партньорств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/>
            <p:nvPr/>
          </p:nvCxnSpPr>
          <p:spPr>
            <a:xfrm flipV="1">
              <a:off x="4773600" y="1811520"/>
              <a:ext cx="548640" cy="35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"/>
            <p:cNvCxnSpPr/>
            <p:nvPr/>
          </p:nvCxnSpPr>
          <p:spPr>
            <a:xfrm flipV="1">
              <a:off x="4844880" y="3322080"/>
              <a:ext cx="432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/>
            <p:nvPr/>
          </p:nvCxnSpPr>
          <p:spPr>
            <a:xfrm flipV="1">
              <a:off x="4990680" y="4835160"/>
              <a:ext cx="35964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/>
            <p:nvPr/>
          </p:nvCxnSpPr>
          <p:spPr>
            <a:xfrm>
              <a:off x="4990680" y="5051520"/>
              <a:ext cx="577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3262320" y="1019160"/>
              <a:ext cx="73080" cy="5183280"/>
            </a:xfrm>
            <a:prstGeom prst="line">
              <a:avLst/>
            </a:prstGeom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0" name=""/>
            <p:cNvCxnSpPr/>
            <p:nvPr/>
          </p:nvCxnSpPr>
          <p:spPr>
            <a:xfrm>
              <a:off x="4845240" y="3682800"/>
              <a:ext cx="50544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/>
            <p:nvPr/>
          </p:nvCxnSpPr>
          <p:spPr>
            <a:xfrm>
              <a:off x="4773600" y="2169720"/>
              <a:ext cx="6501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Характеристики на ТМ и 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9960" y="1143000"/>
          <a:ext cx="8344080" cy="5584680"/>
        </p:xfrm>
        <a:graphic>
          <a:graphicData uri="http://schemas.openxmlformats.org/drawingml/2006/table">
            <a:tbl>
              <a:tblPr/>
              <a:tblGrid>
                <a:gridCol w="2401920"/>
                <a:gridCol w="2854440"/>
                <a:gridCol w="3087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атични мреж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ни груп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тньорство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in-ma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–12 от най-малко 3 Д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+ 2 града наблюдател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 партньора, които не са градо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–8 от най-малко 3 Д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ещ партнь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бличен орг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дължителност (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 месе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месе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0 000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 000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мяна на опит и добри практики, използване на наученото за решаване на проблеми на градовет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добиване на знания, идентификация на добри практики, принос към процеса на капитализира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ду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тни планове за действие, резюме на добри практики, инструментариум, препоръки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поръки, познания за устойчиво градско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руги особе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bg-BG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Участие на Управляващите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bg-BG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органи на О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190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Фази на реализация (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52680"/>
            <a:ext cx="7772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Фаза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Фаза на разработва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6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сеца за ТМ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- 4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сеца за РГ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формиране на партньорския еки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инализиране/конкретизиране на темите за рабо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ършване на предварително проучване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аботване и съгласуване на детайлна работна програма и свързаните с нея очаквани резулта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формиране на местни групи за подпомагане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BACT Local Support Groups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ъставяне на описание и подаване на детайлна одитна пътека за про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аване на цялостно проектно предложение заедно с всички изисквани споразумения и подписани докумен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Фази на реализация 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Фаза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II -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Изпъл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max 30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сец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ТМ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– max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сец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Г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на дейности по обмяна на опит и натрупване на 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матични семинари, посещения на мяс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учвания, сравнителни анализи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Дейности по обобщаване и разпростра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работване на местни планове за действие (Т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вличане на ключови поуки и зн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пространение на продуктите от проекта и др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Допълнителна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http://urbact.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Arial"/>
              </a:rPr>
              <a:t>www.bgregio.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Оперативна програ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CT II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2007-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760" y="1618920"/>
            <a:ext cx="8448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грама по Цел 3 “Европейско териториално сътрудничество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грама за обмяна на опит и знания за градовете с принос към инициативата на Европейската комисия “Региони за икономическа промяна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инициативата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BAN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 Общността през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BACT I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– към Оперативна програма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BACT II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базата на натрупания опит и отчетено въздействие върху националните и европейската поли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ета с Решение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(2007)4454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Европейската комисия от 2 октомври 2007 г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пълняемост с други Европейски инициативи и програми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EG IVC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PON 2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правляващ орган - Междуведомствена агенция по въпросите на развитието на градовете (Франц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ртифициращ орган - 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Caisse des D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s et Consignation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” (Депозитна каса) (Франция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Териториален обхв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1800" y="1486080"/>
            <a:ext cx="7340400" cy="45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7 държави – членки на 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 страни-партньори – Кралство Норвегия и Конфедерация Швейцария – могат да участват на собствени разноски, не ползват финансиране от ЕФР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Партньори от страни, ползващи предприсъединителни инструменти, могат да участват в операциите на програмата с финансиране от предприсъединителните инструменти, без да ползват финансиране от ЕФР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Партньори от други страни могат да участват със свое собствено финансира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1900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Бенефициенти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18640" y="1456920"/>
            <a:ext cx="7458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сички европейски градове (общини и организирани агломерации) от 27 държави – членки на ЕС + 2 страни-партньори (Кралство Норвегия и Конфедерация Швейцария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егионални и национални органи (доколкото се разглеждат въпроси на градското развит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ниверситети и изследователски центрове (доколкото се разглеждат въпроси на градското развит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Бенефициентите трябва да бъдат публични органи или еквивалентни на публични орг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Бенефициенти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0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сяко юридическо лице, управлявано от публично или частно прав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чредено със специфична цел за удовлетворяване на потребности  от общ интерес, няма индустриален или търговски характер (това не изключва лица, имащи частично индустриален или търговски характ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юридическа самостоятелност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финансирано в по-голямата си част от държавата или от регионални или местни власти или от други лица, управлявани от публично пра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ли е обект на управленски надзор от такива орга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ли има административен управителен или надзорен борд, в който повече от половината членове са определени от държавата, от регионални или местни органи, или от други органи, управлявани от публично пра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09680"/>
            <a:ext cx="7772400" cy="92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RBACT I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33080"/>
            <a:ext cx="805824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сновна це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а се повиши ефективността на политиките за устойчиво интегрира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градско развитие в Европа с оглед прилагането на Стратегията от Лисабон и Гьотебор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пецифични ц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а улесни обмяната на опит и знания в областта на устойчивото градско развитие сред местните и регионалните орган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а разпространява широко опита, придобитите знания и добрите практики на градовете, резултатите от проектите, да осигури предаване на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w-how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в областта на интегрираното градско разви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а подпомага политиците и практиците в градовете и управляващите органи на оперативните програми да съставят планове за действие за устойчивото развитие на урбанизираните територии с цел подпомагане реализирането на програмите, финансирани от Структурните фондо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риоритетни о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Тематичен обхват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иоритетни оси 1 и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оритетна ос 1: Градовете – двигатели на растежа и създаването на работни ме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и допустим бюджет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59%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от общия бюджет на програмата (44% ЕФР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оритетна ос 2: Атрактивни и сближени град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 допустим бюджет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от общия бюджет на програмата (50% ЕФР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иоритетна ос 3 – Техническа помо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хническата помощ има за цел да подпомогне дейностите по подготовката, управлението, наблюдението и контрола на програмата в съответствие с чл. 46 от Регламент (ЕС) 1083 от 2006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 допустим бюджет - 8,59% от общия бюджет на програмата (6% ЕФР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Тематични приоритети</a:t>
            </a:r>
            <a:br>
              <a:rPr sz="28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иоритетна ос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23720"/>
            <a:ext cx="797256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Градовете – двигатели на растежа и създаването на работни ме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сърчаване на предприемачество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дкрепа на малки и средни предприят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не на публично-частни партньорства за осигуряване на основан на нуждите и потребностите интегриран под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витие на социална икономика в изостаналите райо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рки за регулиране на неофициалната (сивата) иконом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артньорство с университети (местни управи, университет, индустрия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витие на клъстери от икономичиски дейности около нови възможности на градското развитие, като култура, социални грижи, околна среда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Тематични приоритети</a:t>
            </a:r>
            <a:br>
              <a:rPr sz="28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иоритетна ос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999720"/>
            <a:ext cx="88200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Подобряване на икономиката, базирана на иновации и знания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1063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КТ стратегии на градско ниво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Достъп до ИКТ за всички жители на градовете, в частност за групите в неравностойно положение, засегнати от ефектите на разделението в ползване на такива технологии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КТ и политиката на заетост (обучение на работниците в градовете, разработване на програми за непрекъснато обучение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новационни центрове, свързани с икономика, базирана на знаният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артньорства (между градове, между градове и частни предприятия, градове и университети) с цел насърчаване на иновационния и предприемачески дух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Заетост и човешки капита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Стратегически подход към активизиране, базиран на нуждите на хорат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нтегрирани пътеки на пазара на труда с акцент върху специфични целеви групи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реминаване от неофициална към официална икономик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Втори шанс за пропуснатите от официалната образователна систем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артньорства с местни училища, обучителни центрове и работодатели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КТ и достъп да образователни източници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артньорства и социална икономик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Целенасочена подкрепа на райони и групи в риск от изолация за адаптиране към промените и за получаване на достъп до работни места в развиващите се сектори на градската икономика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(т. е. способност за адаптиране на работниците и компаниите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08:39Z</dcterms:created>
  <dc:creator>PetrovaV</dc:creator>
  <dc:description/>
  <dc:language>en-US</dc:language>
  <cp:lastModifiedBy>MRRB</cp:lastModifiedBy>
  <cp:lastPrinted>2005-12-02T13:05:45Z</cp:lastPrinted>
  <dcterms:modified xsi:type="dcterms:W3CDTF">2008-08-13T12:40:52Z</dcterms:modified>
  <cp:revision>91</cp:revision>
  <dc:subject/>
  <dc:title>CPD Implementation in Bulgaria</dc:title>
</cp:coreProperties>
</file>