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85248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3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2A9842-BDAA-4617-87BE-0090FA95A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14FEE27-4869-4F08-99C0-655C34A062F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7012F8-584F-452D-8EA1-565D77A31E0B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E16227-E567-4999-8802-231284F7EFF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1D0BCB-4BEC-4E07-BDF5-450661589C9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60B74FC-2F5F-45F5-97DE-4592E0C2E07C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899B1C3-EAB7-4BA0-B7C2-2739678EE70C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32A401-DB57-447D-B2D8-D4A8DD8E00E5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F89D9F-2593-47CA-BD08-40DC03AFFCAD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8374CE-2FDC-4A15-AEC1-7538E3668C3B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6FE6912-9844-4D6D-9DE5-36F6DCAC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73B9EA-8BE4-48C2-AE94-98A6BBB4A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AC1FF4E-C049-48CA-93EC-B05C249AD782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619D3C-0852-4279-907D-F438F15A0A3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EFE9F2-A027-41AE-B35C-CA4DA7D7C1F7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AECC023-945A-4289-B5ED-189801157F73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198A8D-EFEC-4A72-A8B0-65737A94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180EAF-C419-4CB2-8A06-077CD899241B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DFAF01-9982-43DE-86F3-415CEA38E843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7C8C44-F948-4722-AAD6-5E29ACE1E26D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First time RO &amp; BG eligible as full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D5D2B1-6095-4368-A5F6-3751582C32BC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1897DB-807B-4E31-A2E5-729663A3190A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E63F4CE-5C66-4DC8-BC84-9C163B02249F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1A39-1E54-4686-AFE1-7922F83365F9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- Lead Applicant  Semina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7" name="Picture 28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8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9BF5-029E-4A27-AE19-A3797E60FD6D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50" name="Picture 27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- Lead Applicant  Semina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7" descr="DD80:Users:csauvage:Documents: OPERA MEUS:DOSSIERS EN COURS:INTERREG IV C:EXE:PPT:medias:images:onglet_all_0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DE25-BB8E-450B-A55B-0B17E44138E3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92" name="Picture 34" descr="DD80:Users:csauvage:Documents: OPERA MEUS:DOSSIERS EN COURS:INTERREG IV C:EXE:PPT:medias:INTERREG_IVC_LOGO.png"/>
          <p:cNvPicPr/>
          <p:nvPr/>
        </p:nvPicPr>
        <p:blipFill>
          <a:blip r:embed="rId3"/>
          <a:stretch/>
        </p:blipFill>
        <p:spPr>
          <a:xfrm>
            <a:off x="324000" y="617400"/>
            <a:ext cx="4155840" cy="14511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94" name="Picture 32" descr="DD80:Users:csauvage:Documents: OPERA MEUS:DOSSIERS EN COURS:INTERREG IV C:EXE:PPT:medias:Flag_EU.png"/>
            <p:cNvPicPr/>
            <p:nvPr/>
          </p:nvPicPr>
          <p:blipFill>
            <a:blip r:embed="rId4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</p:txBody>
        </p:sp>
      </p:grpSp>
      <p:sp>
        <p:nvSpPr>
          <p:cNvPr id="96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- Lead Applicant  Semina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138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grpSp>
        <p:nvGrpSpPr>
          <p:cNvPr id="140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141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</p:txBody>
        </p:sp>
      </p:grpSp>
      <p:sp>
        <p:nvSpPr>
          <p:cNvPr id="143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- Lead Applicant  Semina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IP-East@interreg4c.e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4581000"/>
            <a:ext cx="8785440" cy="1845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2209680" y="270504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84360" y="286020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Introduction to INTERREG IVC: 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main features &amp; 1</a:t>
            </a:r>
            <a:r>
              <a:rPr b="1" lang="en-GB" sz="2800" spc="-1" strike="noStrike" baseline="30000">
                <a:solidFill>
                  <a:srgbClr val="00316e"/>
                </a:solidFill>
                <a:latin typeface="Arial"/>
              </a:rPr>
              <a:t>st</a:t>
            </a: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 call resul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785880" y="514368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16e"/>
                </a:solidFill>
                <a:latin typeface="Arial"/>
              </a:rPr>
              <a:t>Anna Stol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316e"/>
                </a:solidFill>
                <a:latin typeface="Arial"/>
              </a:rPr>
              <a:t>Project Advis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Zornitsa Tsoneva,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Communication &amp; Project Advis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6e"/>
                </a:solidFill>
                <a:latin typeface="Arial"/>
              </a:rPr>
              <a:t>Information Point </a:t>
            </a:r>
            <a:r>
              <a:rPr b="1" lang="pl-PL" sz="1800" spc="-1" strike="noStrike">
                <a:solidFill>
                  <a:srgbClr val="00316e"/>
                </a:solidFill>
                <a:latin typeface="Arial"/>
              </a:rPr>
              <a:t>East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50920" y="1285920"/>
            <a:ext cx="8893080" cy="52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13356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495360" indent="-13356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Rostock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IBSH), Germany: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Denmark, Estonia, Finland, Germany, Latvia, Lithuania, Sweden, Norway;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495360" indent="-13356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Katowice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MRD), Poland: 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ustria, Czech Republic, Hungary, Poland, Slovak Republic, Slovenia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ulgaria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, Romania; 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495360" indent="-13356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Valencia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GV), Spain: 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Cyprus, Greece, Italy, Malta, Portugal, Spain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495360" indent="-13356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Lille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RNPC), France: 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Belgium, France, Ireland, Luxembourg, Netherlands, United Kingdom, Switzerland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2428920" y="857160"/>
            <a:ext cx="43228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Information Poin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755640" y="2492280"/>
            <a:ext cx="7858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IVC proposes 2 types of interventions: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Regional Initiative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Capitalisation Projects, including Fast Track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428840" y="1214280"/>
            <a:ext cx="60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s of Intervention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5"/>
          <p:cNvSpPr/>
          <p:nvPr/>
        </p:nvSpPr>
        <p:spPr>
          <a:xfrm>
            <a:off x="971640" y="765000"/>
            <a:ext cx="756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1 ‘Regional Initiative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Definition &amp; Main Characteristic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65120" y="1989000"/>
            <a:ext cx="86788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I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nterregional cooperation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SimSun"/>
              </a:rPr>
              <a:t>projects focusing on the exchange of experiences and the identification, analysis, dissemination and possible transfer of good practices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ntensity of cooperation from networking activities to intensive joint development (e.g. mini-programme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Regardless of the intensity, one core requirement for all:  specific focus on the 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interregional exchange of experience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at policy level</a:t>
            </a:r>
            <a:r>
              <a:rPr b="0" lang="en-GB" sz="2400" spc="-1" strike="noStrike">
                <a:solidFill>
                  <a:srgbClr val="00316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826920" y="69228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1 ‘Regional Initiative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Recommendations’ overview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7120" y="2000160"/>
          <a:ext cx="8391600" cy="4381560"/>
        </p:xfrm>
        <a:graphic>
          <a:graphicData uri="http://schemas.openxmlformats.org/drawingml/2006/table">
            <a:tbl>
              <a:tblPr/>
              <a:tblGrid>
                <a:gridCol w="1633680"/>
                <a:gridCol w="6757920"/>
              </a:tblGrid>
              <a:tr h="21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Size of the partnership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00316e"/>
                        </a:buClr>
                        <a:buSzPct val="80000"/>
                        <a:buFont typeface="Arial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Recommended number of partners depends on the level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of intensity of cooperat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e.g. basic level: max of 20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        medium level: max of 15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00316e"/>
                        </a:buClr>
                        <a:buSzPct val="80000"/>
                        <a:buFont typeface="Arial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Exception for mini-programmes: </a:t>
                      </a:r>
                      <a:r>
                        <a:rPr b="1" lang="en-GB" sz="2000" spc="-1" strike="noStrike" u="sng">
                          <a:solidFill>
                            <a:srgbClr val="00316e"/>
                          </a:solidFill>
                          <a:uFillTx/>
                          <a:latin typeface="Arial"/>
                          <a:ea typeface="Arial"/>
                        </a:rPr>
                        <a:t>must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not exceed 8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 partners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36 months (up to 48 months for mini-programme)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156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 ERDF:  EUR 500,000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ax ERDF: EUR 5 million (only in </a:t>
                      </a:r>
                      <a:r>
                        <a:rPr b="0" lang="en-GB" sz="2000" spc="-1" strike="noStrike" u="sng">
                          <a:solidFill>
                            <a:srgbClr val="00316e"/>
                          </a:solidFill>
                          <a:uFillTx/>
                          <a:latin typeface="Arial"/>
                          <a:ea typeface="Arial"/>
                        </a:rPr>
                        <a:t>exceptional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case)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Expected average ERDF budget of IVC projects: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between EUR 1 and 2 mill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826920" y="76500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Definition and Main Characteristic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95280" y="2286000"/>
            <a:ext cx="8748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Cooperation projects dedicated to the transfer of good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  practices into EU Structural Funds mainstream programme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  of the participating region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(i.e. Convergence, Competitiveness &amp;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    European Territorial Cooperation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28760" y="4357800"/>
            <a:ext cx="835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Two prerequisites for applying to Capitalisation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928800" y="4929120"/>
            <a:ext cx="77770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xistence of good practices ready to be transferred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nvolvement of the relevant Managing Authoritie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179280" y="2205000"/>
            <a:ext cx="896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xpected results: one ‘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Action Plan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’ for each participating region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9280" y="2924280"/>
            <a:ext cx="8964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Action Plan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: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strategic document defining precisely how the good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actices will be implemented in the Operational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ogramme of each region involved in the project</a:t>
            </a:r>
            <a:br>
              <a:rPr sz="2400"/>
            </a:b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To be signed by relevant stakeholders (political endorsement)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binding character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826920" y="83664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Definition and Main Characteristic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56" name="Bent-Up Arrow 11" descr=""/>
          <p:cNvPicPr/>
          <p:nvPr/>
        </p:nvPicPr>
        <p:blipFill>
          <a:blip r:embed="rId1"/>
          <a:stretch/>
        </p:blipFill>
        <p:spPr>
          <a:xfrm>
            <a:off x="1620720" y="534024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826920" y="90792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Overview of Recommendation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00040" y="2428920"/>
          <a:ext cx="8352000" cy="3076560"/>
        </p:xfrm>
        <a:graphic>
          <a:graphicData uri="http://schemas.openxmlformats.org/drawingml/2006/table">
            <a:tbl>
              <a:tblPr/>
              <a:tblGrid>
                <a:gridCol w="1984320"/>
                <a:gridCol w="6367680"/>
              </a:tblGrid>
              <a:tr h="13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Size of the partnership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 n° of countries represented:    </a:t>
                      </a: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ax n° of countries represented:  </a:t>
                      </a: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24 months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Budget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 ERDF:  EUR 300,000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ax ERDF: EUR 3 million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826920" y="69228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Fast Track Projec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79280" y="1916280"/>
            <a:ext cx="8535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Fast Track Projects = Capitalisation projects benefiting from additional assistance by the European Commission in order to contribute to the “Regions for Economic Change” initiative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79280" y="3860640"/>
            <a:ext cx="464364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Further information on: </a:t>
            </a:r>
            <a:br>
              <a:rPr sz="2400"/>
            </a:b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http://ec.europa.eu/regional_policy/cooperation/interregional/ecochange/themes_en.cfm?nmenu=3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4078080" cy="29098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</a:rPr>
              <a:t>Activities should be organised logically into three core components: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539640" y="2276640"/>
            <a:ext cx="828036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Component 1: Management and Coordination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deals with activities related to the administrative, legal and financial activities which are necessary to run an INTERREG IVC project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Component 2: Communication and Dissemination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activities aimed at disseminating the project’s achievement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Component 3: Exchange of experience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depends on the choice of the type of intervention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Regional Initiative Projects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exchange of experiences dedicated to the identification and analysis of good practice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Capitalisation Projects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exchange of experience dedicated to the transfer of good practices into the Structural Funds mainstream programme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ing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3249720" y="5489640"/>
            <a:ext cx="190476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Project Partn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75" name="Picture 3" descr="BD04882_"/>
          <p:cNvPicPr/>
          <p:nvPr/>
        </p:nvPicPr>
        <p:blipFill>
          <a:blip r:embed="rId1"/>
          <a:stretch/>
        </p:blipFill>
        <p:spPr>
          <a:xfrm>
            <a:off x="3059280" y="1730520"/>
            <a:ext cx="745920" cy="639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3059280" y="3921120"/>
            <a:ext cx="24001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Lead Partner (LP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59280" y="2416320"/>
            <a:ext cx="2400120" cy="64260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Joint Secretariat/ Managing Authority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78" name="Picture 6" descr="BS01060_"/>
          <p:cNvPicPr/>
          <p:nvPr/>
        </p:nvPicPr>
        <p:blipFill>
          <a:blip r:embed="rId2"/>
          <a:stretch/>
        </p:blipFill>
        <p:spPr>
          <a:xfrm>
            <a:off x="3249720" y="4813200"/>
            <a:ext cx="745920" cy="6732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3059280" y="1197000"/>
            <a:ext cx="23875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Certifying Authority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 rot="16200000">
            <a:off x="3831120" y="4923000"/>
            <a:ext cx="760680" cy="362160"/>
          </a:xfrm>
          <a:prstGeom prst="rightArrow">
            <a:avLst>
              <a:gd name="adj1" fmla="val 50000"/>
              <a:gd name="adj2" fmla="val 52510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81" name="Picture 9" descr="BS01094_"/>
          <p:cNvPicPr/>
          <p:nvPr/>
        </p:nvPicPr>
        <p:blipFill>
          <a:blip r:embed="rId3"/>
          <a:stretch/>
        </p:blipFill>
        <p:spPr>
          <a:xfrm>
            <a:off x="3076560" y="3102120"/>
            <a:ext cx="727200" cy="7254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0"/>
          <p:cNvSpPr/>
          <p:nvPr/>
        </p:nvSpPr>
        <p:spPr>
          <a:xfrm rot="16200000">
            <a:off x="3833640" y="3374280"/>
            <a:ext cx="755640" cy="362160"/>
          </a:xfrm>
          <a:prstGeom prst="rightArrow">
            <a:avLst>
              <a:gd name="adj1" fmla="val 50000"/>
              <a:gd name="adj2" fmla="val 52162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 rot="16200000">
            <a:off x="3868560" y="1891800"/>
            <a:ext cx="685800" cy="362160"/>
          </a:xfrm>
          <a:prstGeom prst="rightArrow">
            <a:avLst>
              <a:gd name="adj1" fmla="val 50000"/>
              <a:gd name="adj2" fmla="val 47341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459400" y="5486400"/>
            <a:ext cx="19051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Project Partn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85" name="Picture 13" descr="BS01060_"/>
          <p:cNvPicPr/>
          <p:nvPr/>
        </p:nvPicPr>
        <p:blipFill>
          <a:blip r:embed="rId4"/>
          <a:stretch/>
        </p:blipFill>
        <p:spPr>
          <a:xfrm>
            <a:off x="6602400" y="4813200"/>
            <a:ext cx="746280" cy="67320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14"/>
          <p:cNvSpPr/>
          <p:nvPr/>
        </p:nvSpPr>
        <p:spPr>
          <a:xfrm rot="13614000">
            <a:off x="5597280" y="4870440"/>
            <a:ext cx="990720" cy="361800"/>
          </a:xfrm>
          <a:prstGeom prst="rightArrow">
            <a:avLst>
              <a:gd name="adj1" fmla="val 50000"/>
              <a:gd name="adj2" fmla="val 68458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1116000" y="5486400"/>
            <a:ext cx="19051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Project Partn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88" name="Picture 16" descr="BS01060_"/>
          <p:cNvPicPr/>
          <p:nvPr/>
        </p:nvPicPr>
        <p:blipFill>
          <a:blip r:embed="rId5"/>
          <a:stretch/>
        </p:blipFill>
        <p:spPr>
          <a:xfrm>
            <a:off x="1116000" y="4809960"/>
            <a:ext cx="746280" cy="6732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7"/>
          <p:cNvSpPr/>
          <p:nvPr/>
        </p:nvSpPr>
        <p:spPr>
          <a:xfrm rot="19141800">
            <a:off x="1908000" y="4869000"/>
            <a:ext cx="1067040" cy="361800"/>
          </a:xfrm>
          <a:prstGeom prst="rightArrow">
            <a:avLst>
              <a:gd name="adj1" fmla="val 50000"/>
              <a:gd name="adj2" fmla="val 73731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7372440" y="530532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1. Expenditure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ontrolled by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PP-controller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7308720" y="3357720"/>
            <a:ext cx="1752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2. LP compiles the joint Progress Report,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Expenditure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ontrolled by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LP-controller and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ollection of PP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ost statements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7233480" y="2057400"/>
            <a:ext cx="1875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3. Progress Reports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hecked by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Project Office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and Finance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Officer in JTS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7236000" y="1039680"/>
            <a:ext cx="16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4. CA checks and initiates payment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179280" y="1197000"/>
            <a:ext cx="26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Reporting and Control System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5" name="Line 25"/>
          <p:cNvSpPr/>
          <p:nvPr/>
        </p:nvSpPr>
        <p:spPr>
          <a:xfrm flipH="1">
            <a:off x="2484360" y="4365720"/>
            <a:ext cx="1008000" cy="1008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4572000" y="4365720"/>
            <a:ext cx="0" cy="1150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5003640" y="4365720"/>
            <a:ext cx="863640" cy="1008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>
            <a:off x="6588000" y="234936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9" name="AutoShape 29"/>
          <p:cNvSpPr/>
          <p:nvPr/>
        </p:nvSpPr>
        <p:spPr>
          <a:xfrm>
            <a:off x="5724360" y="1413000"/>
            <a:ext cx="1295640" cy="316836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554400 h 3168360"/>
              <a:gd name="textAreaBottom" fmla="*/ 229716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5940360" y="27082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Payment to LP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 rot="3063600">
            <a:off x="4487760" y="4757400"/>
            <a:ext cx="14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Payment to PPs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2" name="Text Box 34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roduction to INTERREG I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786040" y="1142640"/>
            <a:ext cx="35006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785880" y="2714760"/>
            <a:ext cx="8358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Reminder on the programme’s main feature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  <a:ea typeface="Arial"/>
              </a:rPr>
              <a:t>Overview of the first call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 communication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533520" y="1371600"/>
            <a:ext cx="8229600" cy="45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General Principle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Increase transparency and awareness of EU fund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Let the public know that EU money is being well spent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Helping others to benefit from your activities, good practices and results achieved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Ensure maximum benefit by multiplying the effects of EU funding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Creating awareness of project activities and result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Why is what you are doing important?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roduction to INTERREG I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143080" y="278604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2.  Overview of the first call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57120" y="1499760"/>
            <a:ext cx="84297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16e"/>
                </a:solidFill>
                <a:uFillTx/>
                <a:latin typeface="Arial"/>
              </a:rPr>
              <a:t>1</a:t>
            </a:r>
            <a:r>
              <a:rPr b="1" lang="en-US" sz="2800" spc="-1" strike="noStrike" u="sng" baseline="30000">
                <a:solidFill>
                  <a:srgbClr val="00316e"/>
                </a:solidFill>
                <a:uFillTx/>
                <a:latin typeface="Arial"/>
              </a:rPr>
              <a:t>st</a:t>
            </a:r>
            <a:r>
              <a:rPr b="1" lang="en-US" sz="2800" spc="-1" strike="noStrike" u="sng">
                <a:solidFill>
                  <a:srgbClr val="00316e"/>
                </a:solidFill>
                <a:uFillTx/>
                <a:latin typeface="Arial"/>
              </a:rPr>
              <a:t> call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launched on 21</a:t>
            </a:r>
            <a:r>
              <a:rPr b="1" lang="en-US" sz="2400" spc="-1" strike="noStrike" baseline="30000">
                <a:solidFill>
                  <a:srgbClr val="00316e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September 2007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osed on 15</a:t>
            </a:r>
            <a:r>
              <a:rPr b="1" lang="en-US" sz="2400" spc="-1" strike="noStrike" baseline="30000">
                <a:solidFill>
                  <a:srgbClr val="00316e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January 2008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16e"/>
                </a:solidFill>
                <a:uFillTx/>
                <a:latin typeface="Arial"/>
              </a:rPr>
              <a:t>492</a:t>
            </a:r>
            <a:r>
              <a:rPr b="1" lang="en-US" sz="2400" spc="-1" strike="noStrike" u="sng">
                <a:solidFill>
                  <a:srgbClr val="00316e"/>
                </a:solidFill>
                <a:uFillTx/>
                <a:latin typeface="Arial"/>
              </a:rPr>
              <a:t> applications received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                   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                                                  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50"/>
          <p:cNvSpPr/>
          <p:nvPr/>
        </p:nvSpPr>
        <p:spPr>
          <a:xfrm>
            <a:off x="928800" y="928800"/>
            <a:ext cx="75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Received by partner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13" name="Chart 6" descr=""/>
          <p:cNvPicPr/>
          <p:nvPr/>
        </p:nvPicPr>
        <p:blipFill>
          <a:blip r:embed="rId1"/>
          <a:stretch/>
        </p:blipFill>
        <p:spPr>
          <a:xfrm>
            <a:off x="-6480" y="1494000"/>
            <a:ext cx="9156960" cy="47307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258920" y="981000"/>
            <a:ext cx="76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42960" y="928800"/>
            <a:ext cx="817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87"/>
                </a:solidFill>
                <a:latin typeface="Arial"/>
              </a:rPr>
              <a:t>Number of Bulgarian partners by region: 150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20" name="Chart Placeholder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8501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285840" y="928800"/>
            <a:ext cx="814392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Assessment proces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1 phase: Eligibility check – </a:t>
            </a:r>
            <a:r>
              <a:rPr b="0" i="1" lang="en-US" sz="2400" spc="-1" strike="noStrike">
                <a:solidFill>
                  <a:srgbClr val="00316e"/>
                </a:solidFill>
                <a:latin typeface="Arial"/>
              </a:rPr>
              <a:t>March 2008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2 phase: Quality assessment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16e"/>
                </a:solidFill>
                <a:latin typeface="Arial"/>
              </a:rPr>
              <a:t>- April 2008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 Capitalisation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316e"/>
                </a:solidFill>
                <a:latin typeface="Arial"/>
              </a:rPr>
              <a:t>September 2008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 Regional Initiative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785880" y="1357200"/>
            <a:ext cx="7643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Results from the assessment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41</a:t>
            </a: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projects approved under conditions: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Capitalisation projec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Regional Initiative Projec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50"/>
          <p:cNvSpPr/>
          <p:nvPr/>
        </p:nvSpPr>
        <p:spPr>
          <a:xfrm>
            <a:off x="928800" y="928800"/>
            <a:ext cx="75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Approved by partner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28" name="Chart 5" descr=""/>
          <p:cNvPicPr/>
          <p:nvPr/>
        </p:nvPicPr>
        <p:blipFill>
          <a:blip r:embed="rId1"/>
          <a:stretch/>
        </p:blipFill>
        <p:spPr>
          <a:xfrm>
            <a:off x="-6480" y="1494000"/>
            <a:ext cx="9150480" cy="48146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50"/>
          <p:cNvSpPr/>
          <p:nvPr/>
        </p:nvSpPr>
        <p:spPr>
          <a:xfrm>
            <a:off x="428760" y="928800"/>
            <a:ext cx="835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Budget approved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32" name="Chart 4" descr=""/>
          <p:cNvPicPr/>
          <p:nvPr/>
        </p:nvPicPr>
        <p:blipFill>
          <a:blip r:embed="rId1"/>
          <a:stretch/>
        </p:blipFill>
        <p:spPr>
          <a:xfrm>
            <a:off x="420840" y="1494000"/>
            <a:ext cx="4157640" cy="4657680"/>
          </a:xfrm>
          <a:prstGeom prst="rect">
            <a:avLst/>
          </a:prstGeom>
          <a:ln w="0">
            <a:noFill/>
          </a:ln>
        </p:spPr>
      </p:pic>
      <p:pic>
        <p:nvPicPr>
          <p:cNvPr id="333" name="Chart 5" descr=""/>
          <p:cNvPicPr/>
          <p:nvPr/>
        </p:nvPicPr>
        <p:blipFill>
          <a:blip r:embed="rId2"/>
          <a:stretch/>
        </p:blipFill>
        <p:spPr>
          <a:xfrm>
            <a:off x="4780080" y="1566720"/>
            <a:ext cx="4082760" cy="46580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0"/>
          <p:cNvSpPr/>
          <p:nvPr/>
        </p:nvSpPr>
        <p:spPr>
          <a:xfrm>
            <a:off x="428760" y="928800"/>
            <a:ext cx="835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Budget approved by priority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37" name="Chart 6" descr=""/>
          <p:cNvPicPr/>
          <p:nvPr/>
        </p:nvPicPr>
        <p:blipFill>
          <a:blip r:embed="rId1"/>
          <a:stretch/>
        </p:blipFill>
        <p:spPr>
          <a:xfrm>
            <a:off x="493560" y="1566720"/>
            <a:ext cx="8156880" cy="48704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roduction to INTERREG I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85880" y="271476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Reminder on the programme’s main feature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50"/>
          <p:cNvSpPr/>
          <p:nvPr/>
        </p:nvSpPr>
        <p:spPr>
          <a:xfrm>
            <a:off x="428760" y="928800"/>
            <a:ext cx="835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Budget approved by sub-theme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41" name="Chart 6" descr=""/>
          <p:cNvPicPr/>
          <p:nvPr/>
        </p:nvPicPr>
        <p:blipFill>
          <a:blip r:embed="rId1"/>
          <a:stretch/>
        </p:blipFill>
        <p:spPr>
          <a:xfrm>
            <a:off x="-6480" y="1566720"/>
            <a:ext cx="4584960" cy="4937400"/>
          </a:xfrm>
          <a:prstGeom prst="rect">
            <a:avLst/>
          </a:prstGeom>
          <a:ln w="0">
            <a:noFill/>
          </a:ln>
        </p:spPr>
      </p:pic>
      <p:pic>
        <p:nvPicPr>
          <p:cNvPr id="342" name="Chart 7" descr=""/>
          <p:cNvPicPr/>
          <p:nvPr/>
        </p:nvPicPr>
        <p:blipFill>
          <a:blip r:embed="rId2"/>
          <a:stretch/>
        </p:blipFill>
        <p:spPr>
          <a:xfrm>
            <a:off x="4565520" y="1566720"/>
            <a:ext cx="4584960" cy="49374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214200" y="107172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87"/>
                </a:solidFill>
                <a:latin typeface="Arial"/>
              </a:rPr>
              <a:t>Number of recommended projects from the East area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48" name="Chart 9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7626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1280" y="890640"/>
            <a:ext cx="8229600" cy="59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Projects with Bulgarian partners already APPROVED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MORE4NRG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RIP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Energy and sustainable transport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): Gabrovo Region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REGIOCLIMA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RIP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Natural and technological risks, climate change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): Regional Agency for Entrepreneurship and Innovations – Varna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B3 Regions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Capitalisation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Information society)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: iCentres Association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PIKE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Capitalisation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Information society)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: Agency for Regional Development and Innovations – Burga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ESF6 CIA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Capitalisation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Employment, human capital and education)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: Institute of Sociology – Bulgarian Academy of Science, Ministry of Labour and Social Policy 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</a:rPr>
              <a:t>And 12 more projects are approved under conditions…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THANK YOU FOR YOUR ATTENTION !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tact u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1187280" y="3213000"/>
            <a:ext cx="71298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</a:rPr>
              <a:t>INTERREG IVC, </a:t>
            </a: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Information Point Eas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15 Mickiewicza stree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40-951 Katowice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POLAND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IP-East@interreg4c.eu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tel.: + 48 32 205 3230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fax: + 48 32 205 3231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www.interreg4c.eu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68360" y="2093760"/>
            <a:ext cx="338292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27 Member State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+ Norway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+ Switzerland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8360" y="141300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</a:rPr>
              <a:t>Eligible area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710160" y="944640"/>
            <a:ext cx="5398920" cy="5005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9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857160" y="8571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Overall objective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28760" y="1643040"/>
            <a:ext cx="871524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mprove the effectiveness of regional development policies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Contribute to economic modernisation and increased competitiveness of Europe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by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 algn="ctr"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nabling exchange of experiences and knowledge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Matching less experienced with more advanced region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nsuring transfer of identified good practice into mainstream programme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684360" y="83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Programme Prioritie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187280" y="2286000"/>
            <a:ext cx="7587000" cy="13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Innovation, Research &amp; Technology Development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ntrepreneurship &amp; SM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Information Societ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mployment, Human Capital &amp; Education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55640" y="1557360"/>
            <a:ext cx="8031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Priority 1:  Innovation and Knowledge Economy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(177M€ ERDF 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85880" y="3716280"/>
            <a:ext cx="8358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Priority 2:  Environment and Risk Prevention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125 M€ ERDF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116000" y="4221000"/>
            <a:ext cx="784872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Natural &amp; Technological Risks; Climate Change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ater Management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aste Prevention &amp; Managemen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Biodiversity &amp; Preservation of Natural Heritage; Air Qualit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nergy &amp; Sustainable Transpor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Cultural Heritage &amp; Landscape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203640" y="652464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826920" y="90792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Who is eligible?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5280" y="1341360"/>
            <a:ext cx="820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 algn="ctr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24000" y="2133720"/>
            <a:ext cx="8207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2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316e"/>
                </a:solidFill>
                <a:uFillTx/>
                <a:latin typeface="Arial"/>
              </a:rPr>
              <a:t>Regional and local authoritie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as main ‘target group’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In justified cases, also bodies governed by public law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13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In case of doubts, each MS is responsible for confirming the legal status of partners based on its territory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ner fun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33520" y="1052640"/>
            <a:ext cx="82864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Partners from EU-MS + Norway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4360" y="1628640"/>
          <a:ext cx="8229600" cy="4718160"/>
        </p:xfrm>
        <a:graphic>
          <a:graphicData uri="http://schemas.openxmlformats.org/drawingml/2006/table">
            <a:tbl>
              <a:tblPr/>
              <a:tblGrid>
                <a:gridCol w="2719080"/>
                <a:gridCol w="5510520"/>
              </a:tblGrid>
              <a:tr h="20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75% ERDF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Austria, Belgium, Denmark, Finland, France, Germany, Ireland, Italy, Luxembourg, Netherlands, Spain, Sweden, UK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20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85% ERDF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de2512"/>
                          </a:solidFill>
                          <a:latin typeface="Arial"/>
                        </a:rPr>
                        <a:t>Bulgaria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, Czech Republic, Cyprus, Estonia, Greece, Hungary, Lithuania, Latvia, Malta, Poland, Portugal, Romania, Slovakia, Slovenia 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50% NO funding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Norway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 Box 1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428920" y="714240"/>
            <a:ext cx="43228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Management structure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27" name="Picture 3" descr="1"/>
          <p:cNvPicPr/>
          <p:nvPr/>
        </p:nvPicPr>
        <p:blipFill>
          <a:blip r:embed="rId1"/>
          <a:stretch/>
        </p:blipFill>
        <p:spPr>
          <a:xfrm>
            <a:off x="1714680" y="1214280"/>
            <a:ext cx="5722920" cy="49928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2057400" y="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. Programme’s main featur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2843280" y="0"/>
            <a:ext cx="63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featur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MS</cp:lastModifiedBy>
  <cp:lastPrinted>2007-09-10T14:07:15Z</cp:lastPrinted>
  <dcterms:modified xsi:type="dcterms:W3CDTF">2008-11-20T08:45:30Z</dcterms:modified>
  <cp:revision>1611</cp:revision>
  <dc:subject/>
  <dc:title>PowerPoint Presentation INTERREG IVC</dc:title>
</cp:coreProperties>
</file>