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85248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7C127E-FFE0-41E6-8F2A-FCE2815C7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ECAFB5-358A-48FE-B82A-0A910AA42F3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745591-402F-4BD6-B6B4-D9088F4288ED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DC0A9B4-BF65-4B66-BB8C-4FD120E37F1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84D0A3-5727-4A68-B002-E924A924009F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771433-772A-4212-A1A8-EBAB64B0681E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D2E1B51-94EC-4DD1-ABF8-4C8CEF2A58A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3A425C-DDBB-451F-8CFC-8B92A418B778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E539ECD-0505-4A46-A710-CAEC9FD0B142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0C45FA-78F8-4FE3-B203-054AEE850D8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E79AFF-A627-473E-A6F5-B4FE87916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E08B58-3F61-476E-88EB-DFE136F3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8E90B4-C745-4BFC-8065-E404E1359F7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29147D6-2C92-4285-80BC-F618C451DC30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953B12-F68D-4796-ADE2-640B28532E5A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BA24FA-6046-46EF-AC81-F78BEF827871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FE5A05-68F0-4A1A-891A-2AE44442D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4E1760-E888-426F-9255-B3DB1749BC44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02794ED-A463-45D8-BFE4-8655DE37DD4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DBA48E-E7CC-4CA4-B592-E03E06D49F45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First time RO &amp; BG eligible as full part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36E0F4-110C-451D-8929-868043206E93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09C362C-13A7-4665-A705-43A0EC1F25D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248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E0C6CD9-F61C-4C2C-9206-1C5CB6D5D4C9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3120"/>
            <a:ext cx="53355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7C47-8228-4E33-BA7F-E0E804FCB8EF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7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8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8B64-D6D5-4A09-A395-41032E6EB9AD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50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B548-0CA3-488A-B9F4-FCE156296A77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92" name="Picture 34" descr="DD80:Users:csauvage:Documents: OPERA MEUS:DOSSIERS EN COURS:INTERREG IV C:EXE:PPT:medias:INTERREG_IVC_LOGO.png"/>
          <p:cNvPicPr/>
          <p:nvPr/>
        </p:nvPicPr>
        <p:blipFill>
          <a:blip r:embed="rId3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94" name="Picture 32" descr="DD80:Users:csauvage:Documents: OPERA MEUS:DOSSIERS EN COURS:INTERREG IV C:EXE:PPT:medias:Flag_EU.png"/>
            <p:cNvPicPr/>
            <p:nvPr/>
          </p:nvPicPr>
          <p:blipFill>
            <a:blip r:embed="rId4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96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13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pSp>
        <p:nvGrpSpPr>
          <p:cNvPr id="140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141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Arial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- Lead Applicant  Semina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IP-East@interreg4c.e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280" y="4581000"/>
            <a:ext cx="8785440" cy="1845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2209680" y="270504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84360" y="286020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Introduction to INTERREG IVC: 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main features &amp; 1</a:t>
            </a:r>
            <a:r>
              <a:rPr b="1" lang="en-GB" sz="28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 call resul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785880" y="514368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316e"/>
                </a:solidFill>
                <a:latin typeface="Arial"/>
              </a:rPr>
              <a:t>Anna Stol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, </a:t>
            </a:r>
            <a:r>
              <a:rPr b="0" i="1" lang="en-GB" sz="1800" spc="-1" strike="noStrike">
                <a:solidFill>
                  <a:srgbClr val="00316e"/>
                </a:solidFill>
                <a:latin typeface="Arial"/>
              </a:rPr>
              <a:t>Project Advis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Zornitsa Tsoneva,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Communication &amp; Project Advis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16e"/>
                </a:solidFill>
                <a:latin typeface="Arial"/>
              </a:rPr>
              <a:t>Information Point </a:t>
            </a:r>
            <a:r>
              <a:rPr b="1" lang="pl-PL" sz="1800" spc="-1" strike="noStrike">
                <a:solidFill>
                  <a:srgbClr val="00316e"/>
                </a:solidFill>
                <a:latin typeface="Arial"/>
              </a:rPr>
              <a:t>Eas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50920" y="1285920"/>
            <a:ext cx="8893080" cy="52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13356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Rostock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IBSH), Germany: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Denmark, Estonia, Finland, Germany, Latvia, Lithuania, Sweden, Norway;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Katowic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MRD), Poland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Austria, Czech Republic, Hungary, Poland, Slovak Republic, Slovenia,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Bulgaria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, Romania; 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Valencia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GV), Spain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Cyprus, Greece, Italy, Malta, Portugal, Spain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495360" indent="-13356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316e"/>
                </a:solidFill>
                <a:uFillTx/>
                <a:latin typeface="Arial"/>
              </a:rPr>
              <a:t>Lille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RNPC), France: </a:t>
            </a:r>
            <a:br>
              <a:rPr sz="2000"/>
            </a:b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elgium, France, Ireland, Luxembourg, Netherlands, United Kingdom, Switzerlan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428920" y="857160"/>
            <a:ext cx="43228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Information Poin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755640" y="2492280"/>
            <a:ext cx="7858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IVC proposes 2 types of interventions: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Regional Initiative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Capitalisation Projects, including Fast Track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428840" y="1214280"/>
            <a:ext cx="60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s of Intervention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5"/>
          <p:cNvSpPr/>
          <p:nvPr/>
        </p:nvSpPr>
        <p:spPr>
          <a:xfrm>
            <a:off x="971640" y="765000"/>
            <a:ext cx="756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&amp;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65120" y="1989000"/>
            <a:ext cx="8678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316e"/>
                </a:solidFill>
                <a:latin typeface="Arial"/>
                <a:ea typeface="Arial"/>
              </a:rPr>
              <a:t>I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nterregional cooperation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SimSun"/>
              </a:rPr>
              <a:t>projects focusing on the exchange of experiences and the identification, analysis, dissemination and possible transfer of good practice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tensity of cooperation from networking activities to intensive joint development (e.g. mini-programm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Regardless of the intensity, one core requirement for all:  specific focus on the </a:t>
            </a:r>
            <a:r>
              <a:rPr b="0" lang="en-GB" sz="2400" spc="-1" strike="noStrike" u="sng">
                <a:solidFill>
                  <a:srgbClr val="00316e"/>
                </a:solidFill>
                <a:uFillTx/>
                <a:latin typeface="Arial"/>
                <a:ea typeface="Arial"/>
              </a:rPr>
              <a:t>interregional exchange of experience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at policy level</a:t>
            </a:r>
            <a:r>
              <a:rPr b="0" lang="en-GB" sz="2400" spc="-1" strike="noStrike">
                <a:solidFill>
                  <a:srgbClr val="00316e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3"/>
          <p:cNvSpPr/>
          <p:nvPr/>
        </p:nvSpPr>
        <p:spPr>
          <a:xfrm>
            <a:off x="826920" y="69228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1 ‘Regional Initiative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Recommendations’ overview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7120" y="2000160"/>
          <a:ext cx="8391600" cy="4381560"/>
        </p:xfrm>
        <a:graphic>
          <a:graphicData uri="http://schemas.openxmlformats.org/drawingml/2006/table">
            <a:tbl>
              <a:tblPr/>
              <a:tblGrid>
                <a:gridCol w="1633680"/>
                <a:gridCol w="6757920"/>
              </a:tblGrid>
              <a:tr h="21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Recommended number of partners depends on the level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of intensity of coope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.g. basic level: max of 20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        medium level: max of 15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buClr>
                          <a:srgbClr val="00316e"/>
                        </a:buClr>
                        <a:buSzPct val="80000"/>
                        <a:buFont typeface="Arial"/>
                        <a:buChar char="●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xception for mini-programmes: </a:t>
                      </a:r>
                      <a:r>
                        <a:rPr b="1" lang="en-GB" sz="2000" spc="-1" strike="noStrike" u="sng">
                          <a:solidFill>
                            <a:srgbClr val="00316e"/>
                          </a:solidFill>
                          <a:uFillTx/>
                          <a:latin typeface="Arial"/>
                          <a:ea typeface="Arial"/>
                        </a:rPr>
                        <a:t>must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not exceed 8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  partners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36 months (up to 48 months for mini-programm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56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500,000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5 million (only in </a:t>
                      </a:r>
                      <a:r>
                        <a:rPr b="0" lang="en-GB" sz="2000" spc="-1" strike="noStrike" u="sng">
                          <a:solidFill>
                            <a:srgbClr val="00316e"/>
                          </a:solidFill>
                          <a:uFillTx/>
                          <a:latin typeface="Arial"/>
                          <a:ea typeface="Arial"/>
                        </a:rPr>
                        <a:t>exceptional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case)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Expected average ERDF budget of IVC projects:</a:t>
                      </a:r>
                      <a:br>
                        <a:rPr sz="2000"/>
                      </a:b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etween EUR 1 and 2 million</a:t>
                      </a:r>
                      <a:endParaRPr b="0" lang="en-US" sz="20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3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826920" y="76500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and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95280" y="2286000"/>
            <a:ext cx="8748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operation projects dedicated to the transfer of good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practices into EU Structural Funds mainstream programme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   of the participating region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(i.e. Convergence, Competitiveness &amp;</a:t>
            </a:r>
            <a:br>
              <a:rPr sz="1800"/>
            </a:br>
            <a:r>
              <a:rPr b="0" lang="en-GB" sz="1800" spc="-1" strike="noStrike">
                <a:solidFill>
                  <a:srgbClr val="00316e"/>
                </a:solidFill>
                <a:latin typeface="Arial"/>
                <a:ea typeface="Arial"/>
              </a:rPr>
              <a:t>    European Territorial Cooperation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28760" y="4357800"/>
            <a:ext cx="8353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wo prerequisites for applying to Capitalisation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928800" y="4929120"/>
            <a:ext cx="77770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xistence of good practices ready to be transferred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300"/>
              </a:spcBef>
              <a:spcAft>
                <a:spcPts val="300"/>
              </a:spcAft>
              <a:buClr>
                <a:srgbClr val="00316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nvolvement of the relevant Managing Authoriti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79280" y="2205000"/>
            <a:ext cx="896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xpected results: one ‘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ction Plan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’ for each participating region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79280" y="2924280"/>
            <a:ext cx="8964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Action Plan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strategic document defining precisely how the good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actices will be implemented in the Operational</a:t>
            </a:r>
            <a:br>
              <a:rPr sz="2400"/>
            </a:b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Programme of each region involved in the project</a:t>
            </a:r>
            <a:br>
              <a:rPr sz="2400"/>
            </a:b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To be signed by relevant stakeholders (political endorsement)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 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binding character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826920" y="83664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Definition and Main Characteristic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56" name="Bent-Up Arrow 11" descr=""/>
          <p:cNvPicPr/>
          <p:nvPr/>
        </p:nvPicPr>
        <p:blipFill>
          <a:blip r:embed="rId1"/>
          <a:stretch/>
        </p:blipFill>
        <p:spPr>
          <a:xfrm>
            <a:off x="1620720" y="534024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826920" y="90792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Overview of Recommendation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00040" y="2428920"/>
          <a:ext cx="8352000" cy="3076560"/>
        </p:xfrm>
        <a:graphic>
          <a:graphicData uri="http://schemas.openxmlformats.org/drawingml/2006/table">
            <a:tbl>
              <a:tblPr/>
              <a:tblGrid>
                <a:gridCol w="1984320"/>
                <a:gridCol w="6367680"/>
              </a:tblGrid>
              <a:tr h="13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Size of the partnership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n° of countries represented:  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n° of countries represented:  </a:t>
                      </a: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24 months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Budget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in ERDF:  EUR 300,000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  <a:ea typeface="Arial"/>
                        </a:rPr>
                        <a:t>Max ERDF: EUR 3 million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826920" y="692280"/>
            <a:ext cx="7561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Type 2 ‘Capitalisation Projects’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  <a:ea typeface="Arial"/>
              </a:rPr>
              <a:t>Fast Track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79280" y="1916280"/>
            <a:ext cx="8535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ast Track Projects = Capitalisation projects benefiting from additional assistance by the European Commission in order to contribute to the “Regions for Economic Change” initiativ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79280" y="3860640"/>
            <a:ext cx="464364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Further information on: </a:t>
            </a:r>
            <a:br>
              <a:rPr sz="2400"/>
            </a:br>
            <a:r>
              <a:rPr b="0" lang="en-GB" sz="1600" spc="-1" strike="noStrike">
                <a:solidFill>
                  <a:srgbClr val="00316e"/>
                </a:solidFill>
                <a:latin typeface="Arial"/>
              </a:rPr>
              <a:t>http://ec.europa.eu/regional_policy/cooperation/interregional/ecochange/themes_en.cfm?nmenu=3</a:t>
            </a: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4078080" cy="290988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0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24000" y="1371600"/>
            <a:ext cx="864072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Activities should be organised logically into three core components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539640" y="2276640"/>
            <a:ext cx="828036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1: Management and Coordination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deals with activities related to the administrative, legal and financial activities which are necessary to run an INTERREG IVC projec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2: Communication and Dissemination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activities aimed at disseminating the project’s achievement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Component 3: Exchange of experience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depends on the choice of the type of intervention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Regional Initiative Projects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exchange of experiences dedicated to the identification and analysis of good practic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Capitalisation Projects – </a:t>
            </a:r>
            <a:r>
              <a:rPr b="0" i="1" lang="en-US" sz="1800" spc="-1" strike="noStrike">
                <a:solidFill>
                  <a:srgbClr val="00316e"/>
                </a:solidFill>
                <a:latin typeface="Arial"/>
              </a:rPr>
              <a:t>exchange of experience dedicated to the transfer of good practices into the Structural Funds mainstream programm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ing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3249720" y="5489640"/>
            <a:ext cx="190476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75" name="Picture 3" descr="BD04882_"/>
          <p:cNvPicPr/>
          <p:nvPr/>
        </p:nvPicPr>
        <p:blipFill>
          <a:blip r:embed="rId1"/>
          <a:stretch/>
        </p:blipFill>
        <p:spPr>
          <a:xfrm>
            <a:off x="3059280" y="1730520"/>
            <a:ext cx="745920" cy="639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3059280" y="3921120"/>
            <a:ext cx="2400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Lead Partner (LP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59280" y="2416320"/>
            <a:ext cx="2400120" cy="64260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Joint Secretariat/ Managing Authority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78" name="Picture 6" descr="BS01060_"/>
          <p:cNvPicPr/>
          <p:nvPr/>
        </p:nvPicPr>
        <p:blipFill>
          <a:blip r:embed="rId2"/>
          <a:stretch/>
        </p:blipFill>
        <p:spPr>
          <a:xfrm>
            <a:off x="3249720" y="4813200"/>
            <a:ext cx="745920" cy="673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3059280" y="1197000"/>
            <a:ext cx="23875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Certifying Authority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0" name="AutoShape 8"/>
          <p:cNvSpPr/>
          <p:nvPr/>
        </p:nvSpPr>
        <p:spPr>
          <a:xfrm rot="16200000">
            <a:off x="3831120" y="4923000"/>
            <a:ext cx="760680" cy="362160"/>
          </a:xfrm>
          <a:prstGeom prst="rightArrow">
            <a:avLst>
              <a:gd name="adj1" fmla="val 50000"/>
              <a:gd name="adj2" fmla="val 52510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1" name="Picture 9" descr="BS01094_"/>
          <p:cNvPicPr/>
          <p:nvPr/>
        </p:nvPicPr>
        <p:blipFill>
          <a:blip r:embed="rId3"/>
          <a:stretch/>
        </p:blipFill>
        <p:spPr>
          <a:xfrm>
            <a:off x="3076560" y="3102120"/>
            <a:ext cx="727200" cy="7254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"/>
          <p:cNvSpPr/>
          <p:nvPr/>
        </p:nvSpPr>
        <p:spPr>
          <a:xfrm rot="16200000">
            <a:off x="3833640" y="3374280"/>
            <a:ext cx="755640" cy="362160"/>
          </a:xfrm>
          <a:prstGeom prst="rightArrow">
            <a:avLst>
              <a:gd name="adj1" fmla="val 50000"/>
              <a:gd name="adj2" fmla="val 52162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 rot="16200000">
            <a:off x="3868560" y="1891800"/>
            <a:ext cx="685800" cy="362160"/>
          </a:xfrm>
          <a:prstGeom prst="rightArrow">
            <a:avLst>
              <a:gd name="adj1" fmla="val 50000"/>
              <a:gd name="adj2" fmla="val 47341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459400" y="548640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5" name="Picture 13" descr="BS01060_"/>
          <p:cNvPicPr/>
          <p:nvPr/>
        </p:nvPicPr>
        <p:blipFill>
          <a:blip r:embed="rId4"/>
          <a:stretch/>
        </p:blipFill>
        <p:spPr>
          <a:xfrm>
            <a:off x="6602400" y="481320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4"/>
          <p:cNvSpPr/>
          <p:nvPr/>
        </p:nvSpPr>
        <p:spPr>
          <a:xfrm rot="13614000">
            <a:off x="5597280" y="4870440"/>
            <a:ext cx="990720" cy="361800"/>
          </a:xfrm>
          <a:prstGeom prst="rightArrow">
            <a:avLst>
              <a:gd name="adj1" fmla="val 50000"/>
              <a:gd name="adj2" fmla="val 68458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1116000" y="5486400"/>
            <a:ext cx="1905120" cy="368280"/>
          </a:xfrm>
          <a:prstGeom prst="rect">
            <a:avLst/>
          </a:prstGeom>
          <a:noFill/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16e"/>
                </a:solidFill>
                <a:latin typeface="Arial"/>
              </a:rPr>
              <a:t>Project Partner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88" name="Picture 16" descr="BS01060_"/>
          <p:cNvPicPr/>
          <p:nvPr/>
        </p:nvPicPr>
        <p:blipFill>
          <a:blip r:embed="rId5"/>
          <a:stretch/>
        </p:blipFill>
        <p:spPr>
          <a:xfrm>
            <a:off x="1116000" y="4809960"/>
            <a:ext cx="746280" cy="6732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7"/>
          <p:cNvSpPr/>
          <p:nvPr/>
        </p:nvSpPr>
        <p:spPr>
          <a:xfrm rot="19141800">
            <a:off x="1908000" y="4869000"/>
            <a:ext cx="1067040" cy="361800"/>
          </a:xfrm>
          <a:prstGeom prst="rightArrow">
            <a:avLst>
              <a:gd name="adj1" fmla="val 50000"/>
              <a:gd name="adj2" fmla="val 73731"/>
            </a:avLst>
          </a:prstGeom>
          <a:solidFill>
            <a:srgbClr val="00316e"/>
          </a:solidFill>
          <a:ln w="9360">
            <a:solidFill>
              <a:srgbClr val="0031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7372440" y="5305320"/>
            <a:ext cx="144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1. Expenditur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PP-controller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7308720" y="3357720"/>
            <a:ext cx="1752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2. LP compiles the joint Progress Report,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Expenditur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ntroll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LP-controller and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llection of PP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ost statemen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7233480" y="2057400"/>
            <a:ext cx="1875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3. Progress Repor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checked by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Project Officer 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and Finance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Officer in JT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7236000" y="1039680"/>
            <a:ext cx="169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73bd"/>
                </a:solidFill>
                <a:latin typeface="Arial"/>
              </a:rPr>
              <a:t>4. CA checks and initiates payment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179280" y="1197000"/>
            <a:ext cx="26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Reporting and Control System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5" name="Line 25"/>
          <p:cNvSpPr/>
          <p:nvPr/>
        </p:nvSpPr>
        <p:spPr>
          <a:xfrm flipH="1">
            <a:off x="2484360" y="4365720"/>
            <a:ext cx="100800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6" name="Line 26"/>
          <p:cNvSpPr/>
          <p:nvPr/>
        </p:nvSpPr>
        <p:spPr>
          <a:xfrm>
            <a:off x="4572000" y="4365720"/>
            <a:ext cx="0" cy="11509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7" name="Line 27"/>
          <p:cNvSpPr/>
          <p:nvPr/>
        </p:nvSpPr>
        <p:spPr>
          <a:xfrm>
            <a:off x="5003640" y="4365720"/>
            <a:ext cx="863640" cy="10080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6588000" y="234936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99" name="AutoShape 29"/>
          <p:cNvSpPr/>
          <p:nvPr/>
        </p:nvSpPr>
        <p:spPr>
          <a:xfrm>
            <a:off x="5724360" y="1413000"/>
            <a:ext cx="1295640" cy="316836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554400 h 3168360"/>
              <a:gd name="textAreaBottom" fmla="*/ 229716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5940360" y="270828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Payment to LP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1" name="Rectangle 31"/>
          <p:cNvSpPr/>
          <p:nvPr/>
        </p:nvSpPr>
        <p:spPr>
          <a:xfrm rot="3063600">
            <a:off x="4487760" y="4757400"/>
            <a:ext cx="145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16e"/>
                </a:solidFill>
                <a:latin typeface="Arial"/>
              </a:rPr>
              <a:t>Payment to PPs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786040" y="1142640"/>
            <a:ext cx="3500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85880" y="2714760"/>
            <a:ext cx="835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Reminder on the programme’s main fea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  <a:ea typeface="Arial"/>
              </a:rPr>
              <a:t>Overview of the first call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 communication princi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533520" y="1371600"/>
            <a:ext cx="8229600" cy="45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General Principl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Increase transparency and awareness of EU fund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Let the public know that EU money is being well spent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Helping others to benefit from your activities, good practices and results achieved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Ensure maximum benefit by multiplying the effects of EU funding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Creating awareness of project activities and result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16e"/>
                </a:solidFill>
                <a:latin typeface="Arial"/>
              </a:rPr>
              <a:t>Why is what you are doing important?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2143080" y="2786040"/>
            <a:ext cx="52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2.  Overview of the first call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120" y="1499760"/>
            <a:ext cx="842976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1</a:t>
            </a:r>
            <a:r>
              <a:rPr b="1" lang="en-US" sz="2800" spc="-1" strike="noStrike" u="sng" baseline="30000">
                <a:solidFill>
                  <a:srgbClr val="00316e"/>
                </a:solidFill>
                <a:uFillTx/>
                <a:latin typeface="Arial"/>
              </a:rPr>
              <a:t>st</a:t>
            </a: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 call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launched on 21</a:t>
            </a:r>
            <a:r>
              <a:rPr b="1" lang="en-US" sz="2400" spc="-1" strike="noStrike" baseline="30000">
                <a:solidFill>
                  <a:srgbClr val="00316e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September 2007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osed on 15</a:t>
            </a:r>
            <a:r>
              <a:rPr b="1" lang="en-US" sz="2400" spc="-1" strike="noStrike" baseline="30000">
                <a:solidFill>
                  <a:srgbClr val="00316e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January 2008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16e"/>
                </a:solidFill>
                <a:uFillTx/>
                <a:latin typeface="Arial"/>
              </a:rPr>
              <a:t>492</a:t>
            </a:r>
            <a:r>
              <a:rPr b="1" lang="en-US" sz="2400" spc="-1" strike="noStrike" u="sng">
                <a:solidFill>
                  <a:srgbClr val="00316e"/>
                </a:solidFill>
                <a:uFillTx/>
                <a:latin typeface="Arial"/>
              </a:rPr>
              <a:t> applications received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                                                   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0"/>
          <p:cNvSpPr/>
          <p:nvPr/>
        </p:nvSpPr>
        <p:spPr>
          <a:xfrm>
            <a:off x="92880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Received by partner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13" name="Chart 6" descr=""/>
          <p:cNvPicPr/>
          <p:nvPr/>
        </p:nvPicPr>
        <p:blipFill>
          <a:blip r:embed="rId1"/>
          <a:stretch/>
        </p:blipFill>
        <p:spPr>
          <a:xfrm>
            <a:off x="-6480" y="1494000"/>
            <a:ext cx="9156960" cy="47307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1258920" y="981000"/>
            <a:ext cx="76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42960" y="928800"/>
            <a:ext cx="817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a87"/>
                </a:solidFill>
                <a:latin typeface="Arial"/>
              </a:rPr>
              <a:t>Number of Bulgarian partners by region: 150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20" name="Chart Placeholder 7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85010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285840" y="928800"/>
            <a:ext cx="8143920" cy="43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Assessment proces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1 phase: Eligibility check – 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March 2008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2 phase: Quality assessment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- April 2008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Capitalisation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316e"/>
                </a:solidFill>
                <a:latin typeface="Arial"/>
              </a:rPr>
              <a:t>September 2008</a:t>
            </a:r>
            <a:r>
              <a:rPr b="0" lang="en-US" sz="2400" spc="-1" strike="noStrike">
                <a:solidFill>
                  <a:srgbClr val="00316e"/>
                </a:solidFill>
                <a:latin typeface="Arial"/>
              </a:rPr>
              <a:t> Regional Initiative project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785880" y="1357200"/>
            <a:ext cx="7643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Results from the assessment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41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projects approved under conditions: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Capitalisation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316e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16e"/>
                </a:solidFill>
                <a:latin typeface="Arial"/>
              </a:rPr>
              <a:t>35</a:t>
            </a:r>
            <a:r>
              <a:rPr b="0" lang="en-US" sz="2800" spc="-1" strike="noStrike">
                <a:solidFill>
                  <a:srgbClr val="00316e"/>
                </a:solidFill>
                <a:latin typeface="Arial"/>
              </a:rPr>
              <a:t> Regional Initiative Project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50"/>
          <p:cNvSpPr/>
          <p:nvPr/>
        </p:nvSpPr>
        <p:spPr>
          <a:xfrm>
            <a:off x="928800" y="92880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Approved by partner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28" name="Chart 5" descr=""/>
          <p:cNvPicPr/>
          <p:nvPr/>
        </p:nvPicPr>
        <p:blipFill>
          <a:blip r:embed="rId1"/>
          <a:stretch/>
        </p:blipFill>
        <p:spPr>
          <a:xfrm>
            <a:off x="-6480" y="1494000"/>
            <a:ext cx="9150480" cy="481464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32" name="Chart 4" descr=""/>
          <p:cNvPicPr/>
          <p:nvPr/>
        </p:nvPicPr>
        <p:blipFill>
          <a:blip r:embed="rId1"/>
          <a:stretch/>
        </p:blipFill>
        <p:spPr>
          <a:xfrm>
            <a:off x="420840" y="1494000"/>
            <a:ext cx="4157640" cy="4657680"/>
          </a:xfrm>
          <a:prstGeom prst="rect">
            <a:avLst/>
          </a:prstGeom>
          <a:ln w="0">
            <a:noFill/>
          </a:ln>
        </p:spPr>
      </p:pic>
      <p:pic>
        <p:nvPicPr>
          <p:cNvPr id="333" name="Chart 5" descr=""/>
          <p:cNvPicPr/>
          <p:nvPr/>
        </p:nvPicPr>
        <p:blipFill>
          <a:blip r:embed="rId2"/>
          <a:stretch/>
        </p:blipFill>
        <p:spPr>
          <a:xfrm>
            <a:off x="4780080" y="1566720"/>
            <a:ext cx="4082760" cy="46580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 by priority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37" name="Chart 6" descr=""/>
          <p:cNvPicPr/>
          <p:nvPr/>
        </p:nvPicPr>
        <p:blipFill>
          <a:blip r:embed="rId1"/>
          <a:stretch/>
        </p:blipFill>
        <p:spPr>
          <a:xfrm>
            <a:off x="493560" y="1566720"/>
            <a:ext cx="8156880" cy="48704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3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troduction to INTERREG IV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85880" y="271476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Reminder on the programme’s main fea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0"/>
          <p:cNvSpPr/>
          <p:nvPr/>
        </p:nvSpPr>
        <p:spPr>
          <a:xfrm>
            <a:off x="428760" y="928800"/>
            <a:ext cx="8358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Budget approved by sub-theme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41" name="Chart 6" descr=""/>
          <p:cNvPicPr/>
          <p:nvPr/>
        </p:nvPicPr>
        <p:blipFill>
          <a:blip r:embed="rId1"/>
          <a:stretch/>
        </p:blipFill>
        <p:spPr>
          <a:xfrm>
            <a:off x="-6480" y="1566720"/>
            <a:ext cx="4584960" cy="4937400"/>
          </a:xfrm>
          <a:prstGeom prst="rect">
            <a:avLst/>
          </a:prstGeom>
          <a:ln w="0">
            <a:noFill/>
          </a:ln>
        </p:spPr>
      </p:pic>
      <p:pic>
        <p:nvPicPr>
          <p:cNvPr id="342" name="Chart 7" descr=""/>
          <p:cNvPicPr/>
          <p:nvPr/>
        </p:nvPicPr>
        <p:blipFill>
          <a:blip r:embed="rId2"/>
          <a:stretch/>
        </p:blipFill>
        <p:spPr>
          <a:xfrm>
            <a:off x="4565520" y="1566720"/>
            <a:ext cx="4584960" cy="493740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7" name="TextBox 8"/>
          <p:cNvSpPr/>
          <p:nvPr/>
        </p:nvSpPr>
        <p:spPr>
          <a:xfrm>
            <a:off x="214200" y="107172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a87"/>
                </a:solidFill>
                <a:latin typeface="Arial"/>
              </a:rPr>
              <a:t>Number of recommended projects from the East area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348" name="Chart 9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7626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Overview of the first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1280" y="890640"/>
            <a:ext cx="8229600" cy="59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Projects with Bulgarian partners already APPROVED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MORE4NRG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RIP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Energy and sustainable transport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): Gabrovo Region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REGIOCLIMA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RIP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Natural and technological risks, climate change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): Regional Agency for Entrepreneurship and Innovations – Varna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B3 Regions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Information society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iCentres Associ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PIKE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Information society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Agency for Regional Development and Innovations – Burga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16e"/>
                </a:solidFill>
                <a:latin typeface="Arial"/>
              </a:rPr>
              <a:t>ESF6 CIA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 (Capitalisation type, sub-theme </a:t>
            </a:r>
            <a:r>
              <a:rPr b="0" i="1" lang="fr-FR" sz="2000" spc="-1" strike="noStrike">
                <a:solidFill>
                  <a:srgbClr val="00316e"/>
                </a:solidFill>
                <a:latin typeface="Arial"/>
              </a:rPr>
              <a:t>Employment, human capital and education)</a:t>
            </a:r>
            <a:r>
              <a:rPr b="0" lang="fr-FR" sz="2000" spc="-1" strike="noStrike">
                <a:solidFill>
                  <a:srgbClr val="00316e"/>
                </a:solidFill>
                <a:latin typeface="Arial"/>
              </a:rPr>
              <a:t>: Institute of Sociology – Bulgarian Academy of Science, Ministry of Labour and Social Policy 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And 12 more projects are approved under conditions…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FOR YOUR ATTENTION 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tact u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1187280" y="3213000"/>
            <a:ext cx="71298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16e"/>
                </a:solidFill>
                <a:latin typeface="Arial"/>
              </a:rPr>
              <a:t>INTERREG IVC,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Information Point Eas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15 Mickiewicza stree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40-951 Katowice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POLAND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IP-East@interreg4c.eu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tel.: + 48 32 205 3230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316e"/>
                </a:solidFill>
                <a:latin typeface="Arial"/>
              </a:rPr>
              <a:t>fax: + 48 32 205 3231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www.interreg4c.eu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468360" y="2093760"/>
            <a:ext cx="338292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27 Member Stat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+ Norway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+ Switzerland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68360" y="1413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</a:rPr>
              <a:t>Eligible area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710160" y="944640"/>
            <a:ext cx="5398920" cy="5005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857160" y="8571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Overall objective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28760" y="1643040"/>
            <a:ext cx="871524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Improve the effectiveness of regional development policies 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Contribute to economic modernisation and increased competitiveness of Europ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by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buClr>
                <a:srgbClr val="ff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abling exchange of experiences and knowledge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Matching less experienced with more advanced region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>
              <a:buClr>
                <a:srgbClr val="00316e"/>
              </a:buClr>
              <a:buSzPct val="11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  <a:ea typeface="Arial"/>
              </a:rPr>
              <a:t>Ensuring transfer of identified good practice into mainstream programmes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 marL="355680" indent="-355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684360" y="836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Programme Prioriti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187280" y="2286000"/>
            <a:ext cx="7587000" cy="13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novation, Research &amp; Technology Development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trepreneurship &amp; SM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formation Socie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mployment, Human Capital &amp; Education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755640" y="1557360"/>
            <a:ext cx="8031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riority 1:  Innovation and Knowledge Economy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(177M€ ERDF 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85880" y="3716280"/>
            <a:ext cx="8358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16e"/>
                </a:solidFill>
                <a:latin typeface="Arial"/>
              </a:rPr>
              <a:t>Priority 2:  Environment and Risk Preven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(125 M€ ERDF)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116000" y="4221000"/>
            <a:ext cx="78487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Natural &amp; Technological Risks; Climate Change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ater Management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Waste Prevention &amp; Managemen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Biodiversity &amp; Preservation of Natural Heritage; Air Quality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ergy &amp; Sustainable Transport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63600" indent="-363600">
              <a:lnSpc>
                <a:spcPts val="1899"/>
              </a:lnSpc>
              <a:spcBef>
                <a:spcPts val="751"/>
              </a:spcBef>
              <a:buClr>
                <a:srgbClr val="00316e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Cultural Heritage &amp; Landscape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203640" y="652464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826920" y="907920"/>
            <a:ext cx="7561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Who is eligible?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1. Programme’s main fe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95280" y="1341360"/>
            <a:ext cx="8207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 algn="ctr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24000" y="2133720"/>
            <a:ext cx="8207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33520" indent="-533520">
              <a:lnSpc>
                <a:spcPct val="12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316e"/>
                </a:solidFill>
                <a:uFillTx/>
                <a:latin typeface="Arial"/>
              </a:rPr>
              <a:t>Regional and local authorities</a:t>
            </a: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 as main ‘target group’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82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 justified cases, also bodies governed by public law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1375"/>
              </a:spcBef>
              <a:buClr>
                <a:srgbClr val="ffcc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</a:rPr>
              <a:t>In case of doubts, each MS is responsible for confirming the legal status of partners based on its territory</a:t>
            </a: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16e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16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ner fund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33520" y="1052640"/>
            <a:ext cx="82864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16e"/>
                </a:solidFill>
                <a:latin typeface="Arial"/>
              </a:rPr>
              <a:t>Partners from EU-MS + Norway</a:t>
            </a: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84360" y="1628640"/>
          <a:ext cx="8229600" cy="4718160"/>
        </p:xfrm>
        <a:graphic>
          <a:graphicData uri="http://schemas.openxmlformats.org/drawingml/2006/table">
            <a:tbl>
              <a:tblPr/>
              <a:tblGrid>
                <a:gridCol w="2719080"/>
                <a:gridCol w="5510520"/>
              </a:tblGrid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7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Austria, Belgium, Denmark, Finland, France, Germany, Ireland, Italy, Luxembourg, Netherlands, Spain, Sweden, UK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1368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20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85% ERDF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de2512"/>
                          </a:solidFill>
                          <a:latin typeface="Arial"/>
                        </a:rPr>
                        <a:t>Bulgaria</a:t>
                      </a: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, Czech Republic, Cyprus, Estonia, Greece, Hungary, Lithuania, Latvia, Malta, Poland, Portugal, Romania, Slovakia, Slovenia 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5760">
                      <a:solidFill>
                        <a:srgbClr val="00316e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50% NO funding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16e"/>
                      </a:solidFill>
                    </a:lnL>
                    <a:lnR w="576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316e"/>
                          </a:solidFill>
                          <a:latin typeface="Arial"/>
                        </a:rPr>
                        <a:t>Norway</a:t>
                      </a:r>
                      <a:endParaRPr b="0" lang="en-US" sz="2400" spc="-1" strike="noStrike">
                        <a:solidFill>
                          <a:srgbClr val="00316e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16e"/>
                      </a:solidFill>
                    </a:lnL>
                    <a:lnR w="13680">
                      <a:solidFill>
                        <a:srgbClr val="00316e"/>
                      </a:solidFill>
                    </a:lnR>
                    <a:lnT w="5760">
                      <a:solidFill>
                        <a:srgbClr val="00316e"/>
                      </a:solidFill>
                    </a:lnT>
                    <a:lnB w="13680">
                      <a:solidFill>
                        <a:srgbClr val="00316e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18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428920" y="714240"/>
            <a:ext cx="43228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000"/>
                </a:solidFill>
                <a:latin typeface="Arial"/>
                <a:ea typeface="Arial"/>
              </a:rPr>
              <a:t>Management structures</a:t>
            </a: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27" name="Picture 3" descr="1"/>
          <p:cNvPicPr/>
          <p:nvPr/>
        </p:nvPicPr>
        <p:blipFill>
          <a:blip r:embed="rId1"/>
          <a:stretch/>
        </p:blipFill>
        <p:spPr>
          <a:xfrm>
            <a:off x="1714680" y="1214280"/>
            <a:ext cx="5722920" cy="49928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"/>
          <p:cNvSpPr/>
          <p:nvPr/>
        </p:nvSpPr>
        <p:spPr>
          <a:xfrm>
            <a:off x="2057400" y="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1. Programme’s main featur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2843280" y="0"/>
            <a:ext cx="630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Programme’s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ain features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203640" y="6553080"/>
            <a:ext cx="4824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16e"/>
                </a:solidFill>
                <a:latin typeface="Arial"/>
              </a:rPr>
              <a:t>18 November 2008 – Sofia, Bulgaria</a:t>
            </a:r>
            <a:endParaRPr b="0" lang="en-US" sz="1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MS</cp:lastModifiedBy>
  <cp:lastPrinted>2007-09-10T14:07:15Z</cp:lastPrinted>
  <dcterms:modified xsi:type="dcterms:W3CDTF">2008-11-20T08:45:30Z</dcterms:modified>
  <cp:revision>1611</cp:revision>
  <dc:subject/>
  <dc:title>PowerPoint Presentation INTERREG IVC</dc:title>
</cp:coreProperties>
</file>