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848880" y="74268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88612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3"/>
          </p:nvPr>
        </p:nvSpPr>
        <p:spPr>
          <a:xfrm>
            <a:off x="3774600" y="9427680"/>
            <a:ext cx="288612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69D9CF4-9AD0-433A-8617-4ED11703B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E9B827C-BF2E-4866-ADFF-22D7DC554EC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16EC4D6-EC82-4636-8DC3-BD552C28C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456874E-1E06-44F3-83D4-21359756C567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9908428-06B1-4694-9F7A-D6C90DB8FE57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6FE570-9726-4D5D-B939-80078B441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5C0686-70E6-4C99-AB6E-199BA0549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578C5BC-58F1-495C-812A-5CD671D6D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23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FF85-1010-4410-8C8D-831B0FE42580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6" name="Picture 28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7" name="Text Box 31"/>
          <p:cNvSpPr/>
          <p:nvPr/>
        </p:nvSpPr>
        <p:spPr>
          <a:xfrm>
            <a:off x="3059280" y="650700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– National Information Day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7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A3EA-61CC-45D6-A42A-1BD1C420D06F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49" name="Picture 27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8200" y="6400800"/>
            <a:ext cx="582480" cy="388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1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– National Information Day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263F-1B2D-4810-B7B3-58CE38A26B3A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305928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– National Information Day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93" name="Picture 3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324000" y="617400"/>
            <a:ext cx="4155840" cy="145116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95" name="Picture 32" descr="DD80:Users:csauvage:Documents: OPERA MEUS:DOSSIERS EN COURS:INTERREG IV C:EXE:PPT:medias:Flag_EU.png"/>
            <p:cNvPicPr/>
            <p:nvPr/>
          </p:nvPicPr>
          <p:blipFill>
            <a:blip r:embed="rId5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8" name="Picture 2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457200" y="533520"/>
            <a:ext cx="4648320" cy="1620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grpSp>
        <p:nvGrpSpPr>
          <p:cNvPr id="140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141" name="Picture 32" descr="DD80:Users:csauvage:Documents: OPERA MEUS:DOSSIERS EN COURS:INTERREG IV C:EXE:PPT:medias:Flag_EU.png"/>
            <p:cNvPicPr/>
            <p:nvPr/>
          </p:nvPicPr>
          <p:blipFill>
            <a:blip r:embed="rId5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sp>
        <p:nvSpPr>
          <p:cNvPr id="143" name="Text Box 31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– National Information Day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755640" y="4869000"/>
            <a:ext cx="80643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16e"/>
                </a:solidFill>
                <a:latin typeface="Arial"/>
              </a:rPr>
              <a:t>Benoît Dalbert, </a:t>
            </a:r>
            <a:r>
              <a:rPr b="0" i="1" lang="en-IE" sz="2400" spc="-1" strike="noStrike">
                <a:solidFill>
                  <a:srgbClr val="00316e"/>
                </a:solidFill>
                <a:latin typeface="Arial"/>
              </a:rPr>
              <a:t>Project Officer</a:t>
            </a:r>
            <a:r>
              <a:rPr b="0" lang="en-IE" sz="2400" spc="-1" strike="noStrike">
                <a:solidFill>
                  <a:srgbClr val="00316e"/>
                </a:solidFill>
                <a:latin typeface="Arial"/>
              </a:rPr>
              <a:t>, Joint Technical Secretaria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16e"/>
                </a:solidFill>
                <a:latin typeface="Arial"/>
              </a:rPr>
              <a:t>National Information Day - Sofia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413440" y="2928960"/>
            <a:ext cx="44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Points of attention on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interregional cooperation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Main Features of INTERREG A, B &amp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8229600" cy="36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Aim: Promoting a better territorial integration within the EU (spatial planning with reference to ESDP)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Themes covered include: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nnovation, especially international networks of universities, research institutions and SME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Environment, especially water resources, rivers, lakes, sea (flood management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Accessibility, including telecommunications, and in particular the completion of networks (communication corridors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Sustainable urban development, especially polycentric development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2640" y="1341360"/>
            <a:ext cx="78206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NTERREG B: Transnational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Cooperat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‘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Extra European dimension to regional development’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0"/>
            <a:ext cx="8610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Main Features of INTERREG A, B &amp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NTERREG C: Interregional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Cooperation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2341440" y="1844640"/>
            <a:ext cx="47516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Main Features of INTERREG A, B &amp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84960" y="1341360"/>
            <a:ext cx="72489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NTERREG C: Interregional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Cooperat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‘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mproving the effectiveness of regional policies’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2708280"/>
            <a:ext cx="784836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INTERREG IVC = ‘capitalisation’ programm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Capitalisation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process of collecting, analysing, disseminating and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transferring good practices in a certain domain of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regional policy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Programme’s thematic priorities: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Innovation and the knowledge economy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Environment and risk preven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684360" y="2852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6e"/>
                </a:solidFill>
                <a:latin typeface="Arial"/>
                <a:ea typeface="Arial"/>
              </a:rPr>
              <a:t>3. Final recommendations on INTERREG IVC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s of attention on interregional cooper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8"/>
          <p:cNvSpPr/>
          <p:nvPr/>
        </p:nvSpPr>
        <p:spPr>
          <a:xfrm>
            <a:off x="857160" y="1857240"/>
            <a:ext cx="705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Key elements derives from this programme’s rationale</a:t>
            </a:r>
            <a:r>
              <a:rPr b="0" lang="en-GB" sz="22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00040" y="2500200"/>
            <a:ext cx="8207280" cy="35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Interregional cooperation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   ≠ cross-border cooperation 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≠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transnational cooper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5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Local &amp; regional authorities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= ‘natural’ target group of IVC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Other bodies may be involved only if their link with regional and local policies is clearly demonstrated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5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Exchange of experiences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= core activities of all IVC projec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Pilot actions / experimentations possible but only under very strict condition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Final recommendations on INTERREG IVC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642960" y="1071720"/>
            <a:ext cx="79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To always keep in mind the programme’s rationale!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28400" y="301104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Thank you very much for your attention!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786040" y="1213920"/>
            <a:ext cx="35006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11280" y="2781360"/>
            <a:ext cx="82864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6e"/>
                </a:solidFill>
                <a:latin typeface="Arial"/>
                <a:ea typeface="Arial"/>
              </a:rPr>
              <a:t>Background Information on INTERREG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6e"/>
                </a:solidFill>
                <a:latin typeface="Arial"/>
                <a:ea typeface="Arial"/>
              </a:rPr>
              <a:t>Main Features of INTERREG A, B &amp; C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6e"/>
                </a:solidFill>
                <a:latin typeface="Arial"/>
                <a:ea typeface="Arial"/>
              </a:rPr>
              <a:t>Final recommendations on INTERREG IVC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s of attention on interregional cooper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900000" y="2708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6e"/>
                </a:solidFill>
                <a:latin typeface="Arial"/>
                <a:ea typeface="Arial"/>
              </a:rPr>
              <a:t>Background Information on INTERREG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s of attention on interregional cooper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Background Information on INTERRE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9640" y="1125360"/>
            <a:ext cx="822960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</a:rPr>
              <a:t>INTERREG Philosophy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4581360"/>
            <a:ext cx="874872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5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Establishing links between regions sharing a common interest</a:t>
            </a:r>
            <a:endParaRPr b="1" lang="en-US" sz="22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Raising awareness among EU citizens</a:t>
            </a:r>
            <a:endParaRPr b="1" lang="en-US" sz="22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Preparing a ‘Europe without borders’</a:t>
            </a:r>
            <a:endParaRPr b="1" lang="en-US" sz="22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199" name="" descr="Connecting European regions"/>
          <p:cNvPicPr/>
          <p:nvPr/>
        </p:nvPicPr>
        <p:blipFill>
          <a:blip r:embed="rId1"/>
          <a:stretch/>
        </p:blipFill>
        <p:spPr>
          <a:xfrm>
            <a:off x="2843280" y="2003400"/>
            <a:ext cx="36720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Background Information on INTERRE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675640" cy="40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INTERREG = New Objective 3 of EU Cohesion Policy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Budget 2007-2013: € 8.7 billion, i.e. 2.5% of EU Cohesion Policy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Cross-border cooperation: € 6.5 billion (74%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Transnational cooperation: € 1.8 billion (18%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nterregional cooperation: € 445 million (5%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Stronger focus on the renewed Lisbon Strategy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Making Europe a more attractive place to invest and work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nvesting more in knowledge and innovation - engines of sustainable growth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Creating more and better jobs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66920" y="1341360"/>
            <a:ext cx="6514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European Territorial Cooperation 2007-2013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116000" y="2852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6e"/>
                </a:solidFill>
                <a:latin typeface="Arial"/>
                <a:ea typeface="Arial"/>
              </a:rPr>
              <a:t>2. Main Features of INTERREG A, B &amp; C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s of attention on interregional cooper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0"/>
            <a:ext cx="8610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Main Features of INTERREG A, B &amp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NTERREG A: Cross-Border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Cooperation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08" name="Rectangle 5" descr="EU: Cross-border co-operation programmes"/>
          <p:cNvPicPr/>
          <p:nvPr/>
        </p:nvPicPr>
        <p:blipFill>
          <a:blip r:embed="rId1"/>
          <a:stretch/>
        </p:blipFill>
        <p:spPr>
          <a:xfrm>
            <a:off x="2556000" y="1844640"/>
            <a:ext cx="4124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Main Features of INTERREG A, B &amp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229600" cy="38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Aim: Bringing adjacent cross-border regions closer together through the development of joint projects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Wide range of issues covered: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Encouraging entrepreneurship, especially the development of SMEs, tourism, culture and cross-border trade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mproving joint management of natural resource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Supporting links between urban and rural area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mproving access to transport and communication network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Developing joint use of infrastructure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Administrative, employment and equal opportunities work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50880" y="1341360"/>
            <a:ext cx="60879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NTERREG A: Cross-Border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Cooperat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‘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Filling the gaps’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0"/>
            <a:ext cx="8610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Main Features of INTERREG A, B &amp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NTERREG B: Transnational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Cooperation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71880" y="1774800"/>
          <a:ext cx="300024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1774800"/>
                    <a:ext cx="30002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42:20Z</dcterms:created>
  <dc:creator>SAUVAGE Christophe</dc:creator>
  <dc:description/>
  <dc:language>en-US</dc:language>
  <cp:lastModifiedBy>Benoit</cp:lastModifiedBy>
  <cp:lastPrinted>2007-09-10T14:07:15Z</cp:lastPrinted>
  <dcterms:modified xsi:type="dcterms:W3CDTF">2008-11-14T12:49:42Z</dcterms:modified>
  <cp:revision>1524</cp:revision>
  <dc:subject/>
  <dc:title>PowerPoint Presentation INTERREG IVC</dc:title>
</cp:coreProperties>
</file>