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Img"/>
          </p:nvPr>
        </p:nvSpPr>
        <p:spPr>
          <a:xfrm>
            <a:off x="848880" y="74268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2"/>
          </p:nvPr>
        </p:nvSpPr>
        <p:spPr>
          <a:xfrm>
            <a:off x="-360" y="9427680"/>
            <a:ext cx="288612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3"/>
          </p:nvPr>
        </p:nvSpPr>
        <p:spPr>
          <a:xfrm>
            <a:off x="3774600" y="9427680"/>
            <a:ext cx="288612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46AC4F8-2A8A-4E00-933F-7BD4A68D5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42367E6-9CB1-4C18-A958-D567D32BC7C6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8492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B1CE936-5396-418C-BB52-B5B684803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8492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C67C49E-9A51-4342-9A87-2343AD38D46F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492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B33C358-DA8C-454F-8EE1-7FDB3772264B}" type="slidenum">
              <a:rPr b="0" lang="en-US" sz="1200" spc="-1" strike="noStrike">
                <a:solidFill>
                  <a:srgbClr val="00316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8492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3EAC0BB-5680-49B8-A252-C547F528B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8492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34AB49C-DB5D-4B14-9651-CFBD46B02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8492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774960" y="9428040"/>
            <a:ext cx="2886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283FC19-4563-4ACC-AB4F-2FEDDC7F8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849240" y="74304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596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8400" y="13716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52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596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98400" y="3130200"/>
            <a:ext cx="264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057040" y="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0560" y="31302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371600"/>
            <a:ext cx="40158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130200"/>
            <a:ext cx="8229600" cy="16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4" name="Picture 16" descr="DD80:Users:csauvage:Documents: OPERA MEUS:DOSSIERS EN COURS:INTERREG IV C:EXE:PPT:medias:INTERREG_IVC_LOGO_small.png"/>
          <p:cNvPicPr/>
          <p:nvPr/>
        </p:nvPicPr>
        <p:blipFill>
          <a:blip r:embed="rId6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5" name="Text Box 23"/>
          <p:cNvSpPr/>
          <p:nvPr/>
        </p:nvSpPr>
        <p:spPr>
          <a:xfrm>
            <a:off x="7920" y="6581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6D2B-1960-47DD-89E3-2315859E1B60}" type="slidenum">
              <a:rPr b="0" lang="en-GB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6" name="Picture 28" descr="DD80:Users:csauvage:Documents: OPERA MEUS:DOSSIERS EN COURS:INTERREG IV C:EXE:PPT:medias:Flag_EU.png"/>
          <p:cNvPicPr/>
          <p:nvPr/>
        </p:nvPicPr>
        <p:blipFill>
          <a:blip r:embed="rId7"/>
          <a:stretch/>
        </p:blipFill>
        <p:spPr>
          <a:xfrm>
            <a:off x="8459640" y="6381720"/>
            <a:ext cx="582840" cy="388800"/>
          </a:xfrm>
          <a:prstGeom prst="rect">
            <a:avLst/>
          </a:prstGeom>
          <a:ln w="0">
            <a:noFill/>
          </a:ln>
        </p:spPr>
      </p:pic>
      <p:sp>
        <p:nvSpPr>
          <p:cNvPr id="7" name="Text Box 31"/>
          <p:cNvSpPr/>
          <p:nvPr/>
        </p:nvSpPr>
        <p:spPr>
          <a:xfrm>
            <a:off x="3059280" y="650700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873"/>
                </a:solidFill>
                <a:latin typeface="Arial"/>
              </a:rPr>
              <a:t>Second call for proposals – National Information Day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4" descr="DD80:Users:csauvage:Documents: OPERA MEUS:DOSSIERS EN COURS:INTERREG IV C:EXE:PPT:medias:onglet_all_02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873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DD80:Users:csauvage:Documents: OPERA MEUS:DOSSIERS EN COURS:INTERREG IV C:EXE:PPT:medias:images:onglet_all_03.gif"/>
          <p:cNvPicPr/>
          <p:nvPr/>
        </p:nvPicPr>
        <p:blipFill>
          <a:blip r:embed="rId3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47" name="Picture 16" descr="DD80:Users:csauvage:Documents: OPERA MEUS:DOSSIERS EN COURS:INTERREG IV C:EXE:PPT:medias:INTERREG_IVC_LOGO_small.png"/>
          <p:cNvPicPr/>
          <p:nvPr/>
        </p:nvPicPr>
        <p:blipFill>
          <a:blip r:embed="rId6"/>
          <a:stretch/>
        </p:blipFill>
        <p:spPr>
          <a:xfrm>
            <a:off x="152280" y="228600"/>
            <a:ext cx="1676520" cy="585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3"/>
          <p:cNvSpPr/>
          <p:nvPr/>
        </p:nvSpPr>
        <p:spPr>
          <a:xfrm>
            <a:off x="7920" y="6553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26FE-21AA-455F-9090-2C2002107E1D}" type="slidenum">
              <a:rPr b="0" lang="nl-BE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49" name="Picture 27" descr="DD80:Users:csauvage:Documents: OPERA MEUS:DOSSIERS EN COURS:INTERREG IV C:EXE:PPT:medias:Flag_EU.png"/>
          <p:cNvPicPr/>
          <p:nvPr/>
        </p:nvPicPr>
        <p:blipFill>
          <a:blip r:embed="rId7"/>
          <a:stretch/>
        </p:blipFill>
        <p:spPr>
          <a:xfrm>
            <a:off x="8458200" y="6400800"/>
            <a:ext cx="582480" cy="3888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1"/>
          <p:cNvSpPr/>
          <p:nvPr/>
        </p:nvSpPr>
        <p:spPr>
          <a:xfrm>
            <a:off x="3048120" y="651024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873"/>
                </a:solidFill>
                <a:latin typeface="Arial"/>
              </a:rPr>
              <a:t>Second call for proposals – National Information Day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8" descr="DD80:Users:csauvage:Documents: OPERA MEUS:DOSSIERS EN COURS:INTERREG IV C:EXE:PPT:medias:images:onglet_all_03.gif"/>
          <p:cNvPicPr/>
          <p:nvPr/>
        </p:nvPicPr>
        <p:blipFill>
          <a:blip r:embed="rId2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7" descr="DD80:Users:csauvage:Documents: OPERA MEUS:DOSSIERS EN COURS:INTERREG IV C:EXE:PPT:medias:images:onglet_all_0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791320" y="15228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7920" y="6581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B074-4B14-4A71-895B-20DB63108A74}" type="slidenum">
              <a:rPr b="0" lang="en-GB" sz="1000" spc="-1" strike="noStrike">
                <a:solidFill>
                  <a:srgbClr val="00316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2133720" y="525780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92" name="Text Box 31"/>
          <p:cNvSpPr/>
          <p:nvPr/>
        </p:nvSpPr>
        <p:spPr>
          <a:xfrm>
            <a:off x="3059280" y="651024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873"/>
                </a:solidFill>
                <a:latin typeface="Arial"/>
              </a:rPr>
              <a:t>Second call for proposals – National Information Day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93" name="Picture 34" descr="DD80:Users:csauvage:Documents: OPERA MEUS:DOSSIERS EN COURS:INTERREG IV C:EXE:PPT:medias:INTERREG_IVC_LOGO.png"/>
          <p:cNvPicPr/>
          <p:nvPr/>
        </p:nvPicPr>
        <p:blipFill>
          <a:blip r:embed="rId4"/>
          <a:stretch/>
        </p:blipFill>
        <p:spPr>
          <a:xfrm>
            <a:off x="324000" y="617400"/>
            <a:ext cx="4155840" cy="145116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38"/>
          <p:cNvGrpSpPr/>
          <p:nvPr/>
        </p:nvGrpSpPr>
        <p:grpSpPr>
          <a:xfrm>
            <a:off x="6794640" y="1384200"/>
            <a:ext cx="2349360" cy="849600"/>
            <a:chOff x="6794640" y="1384200"/>
            <a:chExt cx="2349360" cy="849600"/>
          </a:xfrm>
        </p:grpSpPr>
        <p:pic>
          <p:nvPicPr>
            <p:cNvPr id="95" name="Picture 32" descr="DD80:Users:csauvage:Documents: OPERA MEUS:DOSSIERS EN COURS:INTERREG IV C:EXE:PPT:medias:Flag_EU.png"/>
            <p:cNvPicPr/>
            <p:nvPr/>
          </p:nvPicPr>
          <p:blipFill>
            <a:blip r:embed="rId5"/>
            <a:stretch/>
          </p:blipFill>
          <p:spPr>
            <a:xfrm>
              <a:off x="6872400" y="1384200"/>
              <a:ext cx="5968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3"/>
            <p:cNvSpPr/>
            <p:nvPr/>
          </p:nvSpPr>
          <p:spPr>
            <a:xfrm>
              <a:off x="6794640" y="1835280"/>
              <a:ext cx="2349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EUROPEAN REGIONAL</a:t>
              </a:r>
              <a:endParaRPr b="0" lang="en-US" sz="1000" spc="-1" strike="noStrike">
                <a:solidFill>
                  <a:srgbClr val="00316e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DEVELOPMENT FUND</a:t>
              </a:r>
              <a:endParaRPr b="0" lang="en-US" sz="10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8" descr="DD80:Users:csauvage:Documents: OPERA MEUS:DOSSIERS EN COURS:INTERREG IV C:EXE:PPT:medias:images:onglet_all_03.gif"/>
          <p:cNvPicPr/>
          <p:nvPr/>
        </p:nvPicPr>
        <p:blipFill>
          <a:blip r:embed="rId2"/>
          <a:stretch/>
        </p:blipFill>
        <p:spPr>
          <a:xfrm>
            <a:off x="0" y="6180120"/>
            <a:ext cx="9144000" cy="677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7" descr="DD80:Users:csauvage:Documents: OPERA MEUS:DOSSIERS EN COURS:INTERREG IV C:EXE:PPT:medias:images:onglet_all_01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5791320" y="15228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pic>
        <p:nvPicPr>
          <p:cNvPr id="138" name="Picture 24" descr="DD80:Users:csauvage:Documents: OPERA MEUS:DOSSIERS EN COURS:INTERREG IV C:EXE:PPT:medias:INTERREG_IVC_LOGO.png"/>
          <p:cNvPicPr/>
          <p:nvPr/>
        </p:nvPicPr>
        <p:blipFill>
          <a:blip r:embed="rId4"/>
          <a:stretch/>
        </p:blipFill>
        <p:spPr>
          <a:xfrm>
            <a:off x="457200" y="533520"/>
            <a:ext cx="4648320" cy="1620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9"/>
          <p:cNvSpPr/>
          <p:nvPr/>
        </p:nvSpPr>
        <p:spPr>
          <a:xfrm>
            <a:off x="2133720" y="5257800"/>
            <a:ext cx="419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grpSp>
        <p:nvGrpSpPr>
          <p:cNvPr id="140" name="Group 38"/>
          <p:cNvGrpSpPr/>
          <p:nvPr/>
        </p:nvGrpSpPr>
        <p:grpSpPr>
          <a:xfrm>
            <a:off x="6794640" y="1384200"/>
            <a:ext cx="2349360" cy="849600"/>
            <a:chOff x="6794640" y="1384200"/>
            <a:chExt cx="2349360" cy="849600"/>
          </a:xfrm>
        </p:grpSpPr>
        <p:pic>
          <p:nvPicPr>
            <p:cNvPr id="141" name="Picture 32" descr="DD80:Users:csauvage:Documents: OPERA MEUS:DOSSIERS EN COURS:INTERREG IV C:EXE:PPT:medias:Flag_EU.png"/>
            <p:cNvPicPr/>
            <p:nvPr/>
          </p:nvPicPr>
          <p:blipFill>
            <a:blip r:embed="rId5"/>
            <a:stretch/>
          </p:blipFill>
          <p:spPr>
            <a:xfrm>
              <a:off x="6872400" y="1384200"/>
              <a:ext cx="596880" cy="4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33"/>
            <p:cNvSpPr/>
            <p:nvPr/>
          </p:nvSpPr>
          <p:spPr>
            <a:xfrm>
              <a:off x="6794640" y="1835280"/>
              <a:ext cx="2349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EUROPEAN REGIONAL</a:t>
              </a:r>
              <a:endParaRPr b="0" lang="en-US" sz="1000" spc="-1" strike="noStrike">
                <a:solidFill>
                  <a:srgbClr val="00316e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316e"/>
                  </a:solidFill>
                  <a:latin typeface="Arial"/>
                </a:rPr>
                <a:t>DEVELOPMENT FUND</a:t>
              </a:r>
              <a:endParaRPr b="0" lang="en-US" sz="1000" spc="-1" strike="noStrike">
                <a:solidFill>
                  <a:srgbClr val="00316e"/>
                </a:solidFill>
                <a:latin typeface="Times New Roman"/>
              </a:endParaRPr>
            </a:p>
          </p:txBody>
        </p:sp>
      </p:grpSp>
      <p:sp>
        <p:nvSpPr>
          <p:cNvPr id="143" name="Text Box 31"/>
          <p:cNvSpPr/>
          <p:nvPr/>
        </p:nvSpPr>
        <p:spPr>
          <a:xfrm>
            <a:off x="3048120" y="6510240"/>
            <a:ext cx="5638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873"/>
                </a:solidFill>
                <a:latin typeface="Arial"/>
              </a:rPr>
              <a:t>Second call for proposals – National Information Day</a:t>
            </a:r>
            <a:endParaRPr b="0" lang="en-US" sz="1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33520" y="1371600"/>
            <a:ext cx="8229600" cy="33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50000"/>
              <a:buFont typeface="Web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601"/>
              </a:spcBef>
              <a:buClr>
                <a:srgbClr val="00316e"/>
              </a:buClr>
              <a:buSzPct val="60000"/>
              <a:buFont typeface="Wingdings" charset="2"/>
              <a:buChar char="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16e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755640" y="4869000"/>
            <a:ext cx="806436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16e"/>
                </a:solidFill>
                <a:latin typeface="Arial"/>
              </a:rPr>
              <a:t>Benoît Dalbert, </a:t>
            </a:r>
            <a:r>
              <a:rPr b="0" i="1" lang="en-IE" sz="2400" spc="-1" strike="noStrike">
                <a:solidFill>
                  <a:srgbClr val="00316e"/>
                </a:solidFill>
                <a:latin typeface="Arial"/>
              </a:rPr>
              <a:t>Project Officer</a:t>
            </a:r>
            <a:r>
              <a:rPr b="0" lang="en-IE" sz="2400" spc="-1" strike="noStrike">
                <a:solidFill>
                  <a:srgbClr val="00316e"/>
                </a:solidFill>
                <a:latin typeface="Arial"/>
              </a:rPr>
              <a:t>, Joint Technical Secretariat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16e"/>
                </a:solidFill>
                <a:latin typeface="Arial"/>
              </a:rPr>
              <a:t>National Information Day - Sofia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413440" y="2928960"/>
            <a:ext cx="44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Points of attention on 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  <a:ea typeface="Arial"/>
              </a:rPr>
              <a:t>interregional cooperation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Main Features of INTERREG A, B &amp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8229600" cy="369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Aim: Promoting a better territorial integration within the EU (spatial planning with reference to ESDP)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Themes covered include: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Innovation, especially international networks of universities, research institutions and SMEs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Environment, especially water resources, rivers, lakes, sea (flood management)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Accessibility, including telecommunications, and in particular the completion of networks (communication corridors)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Sustainable urban development, especially polycentric development 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92640" y="1341360"/>
            <a:ext cx="782064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INTERREG B: Transnational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Cooperation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‘</a:t>
            </a: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Extra European dimension to regional development’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3520" y="0"/>
            <a:ext cx="8610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Main Features of INTERREG A, B &amp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INTERREG C: Interregional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Cooperation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2341440" y="1844640"/>
            <a:ext cx="47516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Main Features of INTERREG A, B &amp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84960" y="1341360"/>
            <a:ext cx="724896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INTERREG C: Interregional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Cooperation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‘</a:t>
            </a: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Improving the effectiveness of regional policies’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2708280"/>
            <a:ext cx="784836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INTERREG IVC = ‘capitalisation’ programme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Capitalisation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: process of collecting, analysing, disseminating and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transferring good practices in a certain domain of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regional policy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Programme’s thematic priorities: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Innovation and the knowledge economy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Environment and risk prevent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684360" y="285264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16e"/>
                </a:solidFill>
                <a:latin typeface="Arial"/>
                <a:ea typeface="Arial"/>
              </a:rPr>
              <a:t>3. Final recommendations on INTERREG IVC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s of attention on interregional cooperat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8"/>
          <p:cNvSpPr/>
          <p:nvPr/>
        </p:nvSpPr>
        <p:spPr>
          <a:xfrm>
            <a:off x="857160" y="1857240"/>
            <a:ext cx="705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16e"/>
                </a:solidFill>
                <a:latin typeface="Arial"/>
                <a:ea typeface="Arial"/>
              </a:rPr>
              <a:t>Key elements derives from this programme’s rationale</a:t>
            </a:r>
            <a:r>
              <a:rPr b="0" lang="en-GB" sz="2200" spc="-1" strike="noStrike">
                <a:solidFill>
                  <a:srgbClr val="000099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500040" y="2500200"/>
            <a:ext cx="8207280" cy="35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Interregional cooperation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    ≠ cross-border cooperation 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≠ 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transnational cooperat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50000"/>
              </a:lnSpc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Local &amp; regional authorities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= ‘natural’ target group of IVC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Other bodies may be involved only if their link with regional and local policies is clearly demonstrated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50000"/>
              </a:lnSpc>
              <a:buClr>
                <a:srgbClr val="00316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Exchange of experiences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 = core activities of all IVC project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  <a:p>
            <a:pPr marL="291960" indent="-2919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  <a:ea typeface="Arial"/>
              </a:rPr>
              <a:t>Pilot actions / experimentations possible but only under very strict conditions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Final recommendations on INTERREG IVC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642960" y="1071720"/>
            <a:ext cx="792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Arial"/>
                <a:ea typeface="Arial"/>
              </a:rPr>
              <a:t>To always keep in mind the programme’s rationale!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28400" y="3011040"/>
            <a:ext cx="828036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16e"/>
                </a:solidFill>
                <a:latin typeface="Arial"/>
              </a:rPr>
              <a:t>Thank you very much for your attention!</a:t>
            </a: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786040" y="1213920"/>
            <a:ext cx="35006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0c2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611280" y="2781360"/>
            <a:ext cx="82864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316e"/>
              </a:buClr>
              <a:buFont typeface="Arial"/>
              <a:buAutoNum type="arabicPeriod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16e"/>
                </a:solidFill>
                <a:latin typeface="Arial"/>
                <a:ea typeface="Arial"/>
              </a:rPr>
              <a:t>Background Information on INTERREG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316e"/>
              </a:buClr>
              <a:buFont typeface="Arial"/>
              <a:buAutoNum type="arabicPeriod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16e"/>
                </a:solidFill>
                <a:latin typeface="Arial"/>
                <a:ea typeface="Arial"/>
              </a:rPr>
              <a:t>Main Features of INTERREG A, B &amp; C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316e"/>
              </a:buClr>
              <a:buFont typeface="Arial"/>
              <a:buAutoNum type="arabicPeriod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16e"/>
                </a:solidFill>
                <a:latin typeface="Arial"/>
                <a:ea typeface="Arial"/>
              </a:rPr>
              <a:t>Final recommendations on INTERREG IVC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s of attention on interregional cooperat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900000" y="2708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316e"/>
              </a:buClr>
              <a:buFont typeface="Arial"/>
              <a:buAutoNum type="arabicPeriod"/>
              <a:tabLst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16e"/>
                </a:solidFill>
                <a:latin typeface="Arial"/>
                <a:ea typeface="Arial"/>
              </a:rPr>
              <a:t>Background Information on INTERREG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2d2015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s of attention on interregional cooperat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Background Information on INTERRE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9640" y="1125360"/>
            <a:ext cx="8229600" cy="4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</a:rPr>
              <a:t>INTERREG Philosophy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920" y="4581360"/>
            <a:ext cx="8748720" cy="13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5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316e"/>
                </a:solidFill>
                <a:latin typeface="Arial"/>
              </a:rPr>
              <a:t>Establishing links between regions sharing a common interest</a:t>
            </a:r>
            <a:endParaRPr b="1" lang="en-US" sz="2200" spc="-1" strike="noStrike">
              <a:solidFill>
                <a:srgbClr val="00316e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316e"/>
                </a:solidFill>
                <a:latin typeface="Arial"/>
              </a:rPr>
              <a:t>Raising awareness among EU citizens</a:t>
            </a:r>
            <a:endParaRPr b="1" lang="en-US" sz="2200" spc="-1" strike="noStrike">
              <a:solidFill>
                <a:srgbClr val="00316e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316e"/>
                </a:solidFill>
                <a:latin typeface="Arial"/>
              </a:rPr>
              <a:t>Preparing a ‘Europe without borders’</a:t>
            </a:r>
            <a:endParaRPr b="1" lang="en-US" sz="22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199" name="" descr="Connecting European regions"/>
          <p:cNvPicPr/>
          <p:nvPr/>
        </p:nvPicPr>
        <p:blipFill>
          <a:blip r:embed="rId1"/>
          <a:stretch/>
        </p:blipFill>
        <p:spPr>
          <a:xfrm>
            <a:off x="2843280" y="2003400"/>
            <a:ext cx="367200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Background Information on INTERRE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675640" cy="40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INTERREG = New Objective 3 of EU Cohesion Policy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Budget 2007-2013: € 8.7 billion, i.e. 2.5% of EU Cohesion Policy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Cross-border cooperation: € 6.5 billion (74%)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Transnational cooperation: € 1.8 billion (18%)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Interregional cooperation: € 445 million (5%)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Stronger focus on the renewed Lisbon Strategy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Making Europe a more attractive place to invest and work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Investing more in knowledge and innovation - engines of sustainable growth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Creating more and better jobs</a:t>
            </a:r>
            <a:r>
              <a:rPr b="0" lang="en-GB" sz="2000" spc="-1" strike="noStrike">
                <a:solidFill>
                  <a:srgbClr val="00316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66920" y="1341360"/>
            <a:ext cx="65145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European Territorial Cooperation 2007-2013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1116000" y="285264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16e"/>
                </a:solidFill>
                <a:latin typeface="Arial"/>
                <a:ea typeface="Arial"/>
              </a:rPr>
              <a:t>2. Main Features of INTERREG A, B &amp; C</a:t>
            </a:r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205740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oints of attention on interregional cooperation</a:t>
            </a:r>
            <a:endParaRPr b="0" lang="en-US" sz="20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3520" y="0"/>
            <a:ext cx="8610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Main Features of INTERREG A, B &amp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INTERREG A: Cross-Border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Cooperation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pic>
        <p:nvPicPr>
          <p:cNvPr id="208" name="Rectangle 5" descr="EU: Cross-border co-operation programmes"/>
          <p:cNvPicPr/>
          <p:nvPr/>
        </p:nvPicPr>
        <p:blipFill>
          <a:blip r:embed="rId1"/>
          <a:stretch/>
        </p:blipFill>
        <p:spPr>
          <a:xfrm>
            <a:off x="2556000" y="1844640"/>
            <a:ext cx="4124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Main Features of INTERREG A, B &amp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8229600" cy="38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Aim: Bringing adjacent cross-border regions closer together through the development of joint projects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31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16e"/>
                </a:solidFill>
                <a:latin typeface="Arial"/>
              </a:rPr>
              <a:t>Wide range of issues covered:</a:t>
            </a:r>
            <a:endParaRPr b="1" lang="en-US" sz="2000" spc="-1" strike="noStrike">
              <a:solidFill>
                <a:srgbClr val="00316e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Encouraging entrepreneurship, especially the development of SMEs, tourism, culture and cross-border trade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Improving joint management of natural resources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Supporting links between urban and rural areas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Improving access to transport and communication networks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Developing joint use of infrastructure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0031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16e"/>
                </a:solidFill>
                <a:latin typeface="Arial"/>
              </a:rPr>
              <a:t>Administrative, employment and equal opportunities work</a:t>
            </a:r>
            <a:endParaRPr b="0" lang="en-US" sz="1800" spc="-1" strike="noStrike">
              <a:solidFill>
                <a:srgbClr val="00316e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50880" y="1341360"/>
            <a:ext cx="608796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INTERREG A: Cross-Border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Cooperation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‘</a:t>
            </a: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Filling the gaps’</a:t>
            </a:r>
            <a:endParaRPr b="0" lang="en-US" sz="2400" spc="-1" strike="noStrike">
              <a:solidFill>
                <a:srgbClr val="00316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3520" y="0"/>
            <a:ext cx="8610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00316e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7040" y="0"/>
            <a:ext cx="708660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666666">
                <a:alpha val="8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Main Features of INTERREG A, B &amp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INTERREG B: Transnational</a:t>
            </a:r>
            <a:r>
              <a:rPr b="1" lang="en-GB" sz="2400" spc="-1" strike="noStrike">
                <a:solidFill>
                  <a:srgbClr val="00316e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0c200"/>
                </a:solidFill>
                <a:latin typeface="Arial"/>
                <a:ea typeface="Arial"/>
              </a:rPr>
              <a:t>Cooperation</a:t>
            </a:r>
            <a:endParaRPr b="1" lang="en-US" sz="2400" spc="-1" strike="noStrike">
              <a:solidFill>
                <a:srgbClr val="00316e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71880" y="1774800"/>
          <a:ext cx="300024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1880" y="1774800"/>
                    <a:ext cx="30002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1:42:20Z</dcterms:created>
  <dc:creator>SAUVAGE Christophe</dc:creator>
  <dc:description/>
  <dc:language>en-US</dc:language>
  <cp:lastModifiedBy>Benoit</cp:lastModifiedBy>
  <cp:lastPrinted>2007-09-10T14:07:15Z</cp:lastPrinted>
  <dcterms:modified xsi:type="dcterms:W3CDTF">2008-11-14T12:49:42Z</dcterms:modified>
  <cp:revision>1524</cp:revision>
  <dc:subject/>
  <dc:title>PowerPoint Presentation INTERREG IVC</dc:title>
</cp:coreProperties>
</file>