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8482-1159-4080-9F9D-13F95EE0F02F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258A-121F-474E-B372-27F1AA8D8035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8C78-6881-4F1B-BA74-C25A40842ED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9850-297A-471B-BA7D-9329B0D23ED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0A58-3F3E-4E5E-942D-614D305FA33A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483A-A7B6-4319-B024-4ADA2E041ED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3102-6111-41B5-8FA2-3BA66C1904C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6762-0619-461F-961F-3E18C2F27B6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70BD-1E18-4B97-9237-9D8DA67BA1F2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254-4E85-4928-BFA0-23CCE339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8A7-F987-4E3D-9F91-A2A98513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59F-6241-4335-90AD-7CB8445D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725D-FF84-4452-92D7-E17518BB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B3E5-10C2-4D79-8B83-69DAD447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BF91-F02C-4B38-B9CD-282A896F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1510-958B-4D04-B882-BF1D3826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82F9-D3CA-4701-A36A-CDB69159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E7C7-E819-4ED1-B17F-C4CCDB4B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0589-0883-4140-8137-E20D2AD4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3796-B8D2-4D70-8B08-A13824C7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09B-EFAC-40B9-8743-BF5290F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6E91-DECA-4C06-8EDF-3980B907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5184-5CBA-4498-8960-01F7C3DC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0643-5317-4E67-9345-ADD0517D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7B46-5104-49FE-BC88-157AFF7D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F61C-A6BD-42D5-844D-26CF92ED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C01-E3BC-4F98-8D19-856D2442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277-68BB-4773-899A-6841313B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265-7E9C-4EB2-9F3C-616F4363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BC6-7204-43F4-A0C5-41929720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208-3D4B-4521-A226-6D738EC1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762B-9B7E-4BF7-8FB3-E2A9EC43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B13-0A3E-4EC9-ACE3-6CFA3B39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873E-F43F-4802-A665-74C923545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2" descr="Logo NSRF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88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204A-CCCC-4161-96A8-91B183F8B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solidFill>
            <a:srgbClr val="000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0" y="1052640"/>
            <a:ext cx="9144000" cy="7272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6524640"/>
            <a:ext cx="9144000" cy="7308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0" descr="Logo NSRF"/>
          <p:cNvPicPr/>
          <p:nvPr/>
        </p:nvPicPr>
        <p:blipFill>
          <a:blip r:embed="rId1"/>
          <a:stretch/>
        </p:blipFill>
        <p:spPr>
          <a:xfrm>
            <a:off x="0" y="1125360"/>
            <a:ext cx="4932360" cy="5399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8000" y="1267920"/>
            <a:ext cx="36702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ология за определяне на финансови корекции, които да се прилагат спрямо разходите, свързани с изпълнението на оперативните програми, съфинансирани от структурните инструменти на ЕС, Европейския земеделски фонд за развитие на селските райони и Европейския фонд за рибарств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нарушения, договарящите органи предприемат незабавни действия за намаляване размера на безвъзмездната финансова помощ, съответно събират на неправомерно изразходваните/изплатени суми по догов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мите подлежащи на възстановяване следва да бъдат равни по размер на установените финансови загуби, а в случаите, когато те не могат да бъдат точно установени -  да бъдат съобразени с препоръчителните размери на финансовите корекции посочени в приложения № 2 и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висимост от характера и сериозността на нарушенията, договарящите органи обосновано могат да прилагат размери на финансовите корекции, различни от препоръчителните размери, определени в приложен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сочените в  приложение № 2 и приложение № 3 нарушения са примерни и с тях не се ограничават случаите на нередности, за които се прилага методолог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установен случай на нередност не е обхванат в приложенията, се използва процентният показател, предвиден за най-близките по вид категория и нару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 се налагат финансови корекции за нередности, които могат да бъдат закрити чрез прекратяване на процедура за обществена поръчка, по която не е извършено плащане 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ана н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договарящия орг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констатирани два или повече нарушения от един бенефициент в рамките на една процедура/договор за възлагане на поръчка/избор на изпълнител, за които предвидените процентни показатели са различни, се налага една финансова корекция при определянето на която се прилага най-високият процентен показател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7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9640" y="1268280"/>
            <a:ext cx="7704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правляващите органи разработват и утвърждават писмени правила за налагане на финансови корекции за отделните програми, които се публикуват на техните интернет страници и на Единния информационен пор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говарящите органи предвиждат съответните клаузи в договорите с бенефициентите съобразно методологията и писмените правила за отделните прог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7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39640" y="1125360"/>
            <a:ext cx="7488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 случаите на установени нередности преди изплащане на безвъзмездна финансова помощ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говарящият орган уведомява бенефициента за нарушението, за което предстои да бъде редуцирана/отказана БФП и посочва размера на финансовата кор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рок 10 работни дни от датата на получаване на уведомлението, бенефициентът може да мотивира искане да не се редуцира/откаже БФП или да се намали размера на финансовата кор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рок  5 работни дни от получаването на искането, договарящият орган мотивира неговото приемане или отхвърля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приемане -  договарящият орган не предприема действия по налагане на финансова корекция или коригира нейния разм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отхвърляне -  договарящият орган пристъпва към намаляване на размера на безвъзмездна финансова помощ със стойността на финансовата кор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7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9640" y="1125360"/>
            <a:ext cx="748836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 случаите на установени нередности след изплащане на безвъзмездна финансова помощ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говарящият орган уведомява бенефициента за нарушението, за което предстои да бъде наложена финансова корекция и посочва нейния 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рок 10 работни дни от датата на получаване на уведомлението, бенефициентът може да мотивира искане да не се налага финансова корекция или да се намали нейния 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рок  5 работни дни от получаването на искането, договарящият орган писмено мотивира неговото приемане или отхвърля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приемане -  договарящият орган не налага финансова корекция или коригира нейния разм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отхвърляне -  договарящият орган пристъпва към налагане на финансова корекция като: (1) прихваща дължимите суми от следващи плащания или (2) упражнява правата си по учредени/издадени от бенефициента обезпечения по договора за безвъзмездна финансова помощ или (3) изпраща покана за доброволно плащане на задължен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0866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ологията е приета с ПМС № 134/05.07.2010г. и е изготвена в съответствие с Насоките на ЕК за определяне на финансовите корекции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ито следва да се прилагат спрямо разходите, съфинансирани от Структурните фондове и Кохезионния фонд при неспазване на правилата относно обществените поръчк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O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7/0037/03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Целта на финансовите корекции е да се възстанови ситуацията, при която 100% от разходите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добрени за съфинансиране от структурните инструменти на ЕС, Европейския земеделски фонд за развитие на селските райони и Европейския фонд за рибарство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са в съответствие с приложимото национално законодателство и общностното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63272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013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налагането на финансови корекции се цел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подобряване на управлението на проектит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съфинансирани в рамките на съответните оперативни програми и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ъзстановяване на неправомерно изразходваните су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лагането на финансови корекции им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евантивно действ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 цели намаляване случаите на не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учаите, в които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ната-членка сама налага финансови корекции, възстановените средства се връщат в бюджета на оперативните програми и могат да се използват повторно по предна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орекциите се налагат от ЕК, то средствата се губя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страната-чл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ологията се прилага спрямо договорит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за безвъзмездна финансова помощ,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ключени след влизането в сила на постановлени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63272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013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 методологията се установяват общите принципи за определянето на финансовите корекции, които се прилагат при констатирани нередности, свързани с процедурите п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ъзлагане на обществени поръчк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по проекти, съфинансирани със средства от Структурните фондове, Кохезионния фонд на ЕС,  Европейския земеделски фонд за развитие на селските райони и Европейски фонд за рибарство за програмния период 2007 - 2013 г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пределяне на изпълнител от страна на бенефициенти на договорена безвъзмездна финансова помощ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т Структурните фондове на ЕС, Програма ФАР на ЕС и от Финансовия механизъм на Европейското икономическо пространство – за случаите, когато бенефициентът не се явява възложител на обществена поръ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63272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013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ологията за финансови корекции се прилага о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говарящите органи по чл. 2 от ПМС № 121/200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говарящите органи на Програмата за развитие на селските райони за периода 2007 – 2013 г. и Оперативната програма за развитие на сектор „Рибарство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дитните органи по оперативните програми, съфинансирани от Структурните инструменти на ЕС, Европейския земеделски фонд за развитие на селските райони и Европейския фонд за риб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7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9640" y="1484280"/>
            <a:ext cx="770436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 определяне на размера на финансовите корекции се отчит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ът и сериозността на нередност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249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ите загуби на публични средства, до които е довело неспазването на националното законодателство и общностното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змерът на финансовите корекции трябва да отговаря на размера на финансова загуба на публичните средств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в това число и от фондовете на 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змерът на финансовата корекция се определя чрез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прилагане н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диференциален или пропорционален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7212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11280" y="1125360"/>
            <a:ext cx="820872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иференциален мето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определяне на размера на финансовата корек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рилагане на диференциалния мет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мерът на финансовата корекция е равен на установения размер на финансовата заг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пределен на базата на анализ на нарушенията на процедурата по възлагане на обществена поръчка или процедурата за определяне на изпълнител от страна на бенефициенти на договорена безвъзмездна финансова помо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определяне на размера на загубат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е съпоставят размерът на договорените/изразходваните средства по договора след възникване на нарушението и хипотетичният размер на разходите в ситуация, в която не е имало нару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7212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11280" y="1125360"/>
            <a:ext cx="820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Пропорционален метод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пределяне на размера на финансовата корекция се прилага за отделни случаи на установени нередности, при които не може да бъде използван диференциалния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Формула за изчисляване на размерът на финансовата корекция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 = Пк x С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ъде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размер на финансовата кор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к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процентен показател на финансовата коре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д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стойността на сключения догов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сновните категории нередности, произтичащи от нарушения на националното законодателство в областта на обществените поръчки (ЗОП, НВМОП) са посочени препоръчителни размери на финансовите корекции в приложение № 2 към методолог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сновните категории нередности, свързани с процедурите по определяне на изпълнител от страна на бенефициенти на договорена безвъзмездна финансова помощ по ПМС № 55 са посочени препоръчителни размери на финансовите корекции в приложение № 3 към методолог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ато проведената процедура за определяне на изпълнител е под стойностните прагове, определени в Директива 2004/17/ЕО и Директива 2004/18/ЕО, следва да бъде приложена финансова корекция в размер на 50% от посочения препоръчителен размер за съответната категория нередност в приложение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5:28:34Z</dcterms:created>
  <dc:creator>Milena Pehlivanova</dc:creator>
  <dc:description/>
  <dc:language>en-US</dc:language>
  <cp:lastModifiedBy>k.hitrova</cp:lastModifiedBy>
  <dcterms:modified xsi:type="dcterms:W3CDTF">2010-07-19T06:35:09Z</dcterms:modified>
  <cp:revision>166</cp:revision>
  <dc:subject/>
  <dc:title>НАЦИОНАЛНА СТРАТЕГИЧЕСКА РЕФЕРЕНТНА РАМКА </dc:title>
</cp:coreProperties>
</file>