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0E92-31B5-4A6D-B293-AD7E5365C5F5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5E3F-279A-451B-B215-3D6C8A7F6F6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D82E-3845-4377-ABD5-337870A5F36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6EEA-9BF7-4DDE-8538-3829F760992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1C0C-C37D-4348-B8A4-871C49C71F09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92F3-E716-4CC4-BCEC-66BB31AB37D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8154-1A43-400A-8C19-01F1F0AC7EF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D1FC-EF86-41F8-A050-137D4CDFBAF1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1B4C-3483-4DD0-ADD5-26A97D4AADE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491-26E1-46C0-8A39-C84A72C9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5C1-5F50-419D-86BA-C5E49A86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5A95-240C-4160-9024-58E92A74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456-3FDA-45F4-9E39-1D6697AF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E0CD-28D4-48EC-8A22-F28E18E0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FE59-16CC-4EA6-8BB3-C65EF473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EC72-9075-4928-8314-0855F413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ABAD-BF2C-4EF1-80C9-CC0D8E31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3A90-2604-4177-ADAF-57E084CF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8000" y="58320"/>
            <a:ext cx="72835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A78D-0BEE-4F99-89EC-D65C76E8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8C72-01F6-483D-8621-5BE7F3C4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0561-28E0-4671-AE25-4B21B71B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D5C0-B6EE-4AFF-BBBD-AD14D98E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7866-C205-4C8B-B684-AE3B4FB8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D6B5-6D22-4F5D-BD49-6C16911C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0617-48C4-42AA-9ED8-F91D3917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02A5-D57F-46BF-BECA-69E4DE36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393-6CA9-46BB-A3F5-E11B94D1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6E0-336F-47ED-9C73-53A06AB4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2F7-F678-4DA8-9DE3-061F9894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8000" y="58320"/>
            <a:ext cx="72835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BB4E-8B8C-417C-99E9-E8DCCB3D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864-BA1E-40E5-8551-31D8933F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096-FE92-4652-B3B0-DCE4DC6A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AF36-41FB-48D3-AF52-FE860CA2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8F7B-A359-4556-87CD-F48DA0832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MF-logo-bjalo"/>
          <p:cNvPicPr/>
          <p:nvPr/>
        </p:nvPicPr>
        <p:blipFill>
          <a:blip r:embed="rId2"/>
          <a:stretch/>
        </p:blipFill>
        <p:spPr>
          <a:xfrm>
            <a:off x="250920" y="5996160"/>
            <a:ext cx="863640" cy="8618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6568920"/>
            <a:ext cx="9144000" cy="289080"/>
          </a:xfrm>
          <a:prstGeom prst="rect">
            <a:avLst/>
          </a:prstGeom>
          <a:solidFill>
            <a:srgbClr val="0000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539640" y="57340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нистерство на финанс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2" descr="Logo NSRF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88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MF-logo-bjalo"/>
          <p:cNvPicPr/>
          <p:nvPr/>
        </p:nvPicPr>
        <p:blipFill>
          <a:blip r:embed="rId2"/>
          <a:stretch/>
        </p:blipFill>
        <p:spPr>
          <a:xfrm>
            <a:off x="250920" y="5996160"/>
            <a:ext cx="863640" cy="861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1"/>
          <p:cNvSpPr/>
          <p:nvPr/>
        </p:nvSpPr>
        <p:spPr>
          <a:xfrm>
            <a:off x="539640" y="57340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нистерство на финанс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4CBC-5A5D-4180-85DA-77BE85DA5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solidFill>
            <a:srgbClr val="000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0" y="6568920"/>
            <a:ext cx="9144000" cy="289080"/>
          </a:xfrm>
          <a:prstGeom prst="rect">
            <a:avLst/>
          </a:prstGeom>
          <a:solidFill>
            <a:srgbClr val="00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0" y="1052640"/>
            <a:ext cx="9144000" cy="72720"/>
          </a:xfrm>
          <a:prstGeom prst="rect">
            <a:avLst/>
          </a:prstGeom>
          <a:solidFill>
            <a:srgbClr val="ffd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6524640"/>
            <a:ext cx="9144000" cy="73080"/>
          </a:xfrm>
          <a:prstGeom prst="rect">
            <a:avLst/>
          </a:prstGeom>
          <a:solidFill>
            <a:srgbClr val="ffd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0" descr="Logo NSRF"/>
          <p:cNvPicPr/>
          <p:nvPr/>
        </p:nvPicPr>
        <p:blipFill>
          <a:blip r:embed="rId1"/>
          <a:stretch/>
        </p:blipFill>
        <p:spPr>
          <a:xfrm>
            <a:off x="0" y="1125360"/>
            <a:ext cx="4932360" cy="5399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8000" y="1267920"/>
            <a:ext cx="36702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тодология за определяне на финансови корекции, които да се прилагат спрямо разходите, свързани с изпълнението на оперативните програми, съфинансирани от структурните инструменти на ЕС, Европейския земеделски фонд за развитие на селските райони и Европейския фонд за рибарств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нарушения, договарящите органи предприемат незабавни действия за намаляване размера на безвъзмездната финансова помощ, съответно събират на неправомерно изразходваните/изплатени суми по догов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мите подлежащи на възстановяване следва да бъдат равни по размер на установените финансови загуби, а в случаите, когато те не могат да бъдат точно установени -  да бъдат съобразени с препоръчителните размери на финансовите корекции посочени в приложения № 2 и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ависимост от характера и сериозността на нарушенията, договарящите органи обосновано могат да прилагат размери на финансовите корекции, различни от препоръчителните размери, определени в приложен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сочените в  приложение № 2 и приложение № 3 нарушения са примерни и с тях не се ограничават случаите на нередности, за които се прилага методолог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установен случай на нередност не е обхванат в приложенията, се използва процентният показател, предвиден за най-близките по вид категория и нару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 се налагат финансови корекции за нередности, които могат да бъдат закрити чрез прекратяване на процедура за обществена поръчка, по която не е извършено плащане о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рана н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договарящия орг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констатирани два или повече нарушения от един бенефициент в рамките на една процедура/договор за възлагане на поръчка/избор на изпълнител, за които предвидените процентни показатели са различни, се налага една финансова корекция при определянето на която се прилага най-високият процентен показател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70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39640" y="1268280"/>
            <a:ext cx="7704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правляващите органи разработват и утвърждават писмени правила за налагане на финансови корекции за отделните програми, които се публикуват на техните интернет страници и на Единния информационен пор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говарящите органи предвиждат съответните клаузи в договорите с бенефициентите съобразно методологията и писмените правила за отделните прог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70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39640" y="1125360"/>
            <a:ext cx="74883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 случаите на установени нередности преди изплащане на безвъзмездна финансова помощ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говарящият орган уведомява бенефициента за нарушението, за което предстои да бъде редуцирана/отказана БФП и посочва размера на финансовата кор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рок 10 работни дни от датата на получаване на уведомлението, бенефициентът може да мотивира искане да не се редуцира/откаже БФП или да се намали размера на финансовата кор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рок  5 работни дни от получаването на искането, договарящият орган мотивира неговото приемане или отхвърля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приемане -  договарящият орган не предприема действия по налагане на финансова корекция или коригира нейния разм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отхвърляне -  договарящият орган пристъпва към намаляване на размера на безвъзмездна финансова помощ със стойността на финансовата кор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70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9640" y="1125360"/>
            <a:ext cx="748836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 случаите на установени нередности след изплащане на безвъзмездна финансова помощ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говарящият орган уведомява бенефициента за нарушението, за което предстои да бъде наложена финансова корекция и посочва нейния раз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рок 10 работни дни от датата на получаване на уведомлението, бенефициентът може да мотивира искане да не се налага финансова корекция или да се намали нейния раз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рок  5 работни дни от получаването на искането, договарящият орган писмено мотивира неговото приемане или отхвърля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приемане -  договарящият орган не налага финансова корекция или коригира нейния разм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отхвърляне -  договарящият орган пристъпва към налагане на финансова корекция като: (1) прихваща дължимите суми от следващи плащания или (2) упражнява правата си по учредени/издадени от бенефициента обезпечения по договора за безвъзмездна финансова помощ или (3) изпраща покана за доброволно плащане на задължени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80866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тодологията е приета с ПМС № 134/05.07.2010г. и е изготвена в съответствие с Насоките на ЕК за определяне на финансовите корекции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ито следва да се прилагат спрямо разходите, съфинансирани от Структурните фондове и Кохезионния фонд при неспазване на правилата относно обществените поръчк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CO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07/0037/03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Целта на финансовите корекции е да се възстанови ситуацията, при която 100% от разходите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добрени за съфинансиране от структурните инструменти на ЕС, Европейския земеделски фонд за развитие на селските райони и Европейския фонд за рибарство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са в съответствие с приложимото национално законодателство и общностното 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63272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013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налагането на финансови корекции се цел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подобряване на управлението на проектит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съфинансирани в рамките на съответните оперативни програми и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възстановяване на неправомерно изразходваните су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лагането на финансови корекции им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евантивно действ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 цели намаляване случаите на нер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учаите, в които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ната-членка сама налага финансови корекции, възстановените средства се връщат в бюджета на оперативните програми и могат да се използват повторно по предна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орекциите се налагат от ЕК, то средствата се губят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 страната-чл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тодологията се прилага спрямо договорит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за безвъзмездна финансова помощ,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ключени след влизането в сила на постановление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63272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013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 методологията се установяват общите принципи за определянето на финансовите корекции, които се прилагат при констатирани нередности, свързани с процедурите п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b47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възлагане на обществени поръчк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по проекти, съфинансирани със средства от Структурните фондове, Кохезионния фонд на ЕС,  Европейския земеделски фонд за развитие на селските райони и Европейски фонд за рибарство за програмния период 2007 - 2013 г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b47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пределяне на изпълнител от страна на бенефициенти на договорена безвъзмездна финансова помощ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т Структурните фондове на ЕС, Програма ФАР на ЕС и от Финансовия механизъм на Европейското икономическо пространство – за случаите, когато бенефициентът не се явява възложител на обществена поръ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63272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013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тодологията за финансови корекции се прилага о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говарящите органи по чл. 2 от ПМС № 121/200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говарящите органи на Програмата за развитие на селските райони за периода 2007 – 2013 г. и Оперативната програма за развитие на сектор „Рибарство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дитните органи по оперативните програми, съфинансирани от Структурните инструменти на ЕС, Европейския земеделски фонд за развитие на селските райони и Европейския фонд за риб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70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9640" y="1484280"/>
            <a:ext cx="770436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 определяне на размера на финансовите корекции се отчит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2b47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ът и сериозността на нередност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249"/>
              </a:spcBef>
              <a:buClr>
                <a:srgbClr val="2b47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2b47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ансовите загуби на публични средства, до които е довело неспазването на националното законодателство и общностното 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Размерът на финансовите корекции трябва да отговаря на размера на финансова загуба на публичните средств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в това число и от фондовете на 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Размерът на финансовата корекция се определя чрез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прилагане н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диференциален или пропорционален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58320"/>
            <a:ext cx="7212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11280" y="1125360"/>
            <a:ext cx="820872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Диференциален мето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определяне на размера на финансовата корек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прилагане на диференциалния мет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мерът на финансовата корекция е равен на установения размер на финансовата заг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определен на базата на анализ на нарушенията на процедурата по възлагане на обществена поръчка или процедурата за определяне на изпълнител от страна на бенефициенти на договорена безвъзмездна финансова помо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определяне на размера на загубат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се съпоставят размерът на договорените/изразходваните средства по договора след възникване на нарушението и хипотетичният размер на разходите в ситуация, в която не е имало нару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58320"/>
            <a:ext cx="7212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11280" y="1125360"/>
            <a:ext cx="820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Пропорционален метод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определяне на размера на финансовата корекция се прилага за отделни случаи на установени нередности, при които не може да бъде използван диференциалния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Формула за изчисляване на размерът на финансовата корекция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 = Пк x С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ъде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– размер на финансовата кор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к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– процентен показател на финансовата коре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д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– стойността на сключения догов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основните категории нередности, произтичащи от нарушения на националното законодателство в областта на обществените поръчки (ЗОП, НВМОП) са посочени препоръчителни размери на финансовите корекции в приложение № 2 към методолог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основните категории нередности, свързани с процедурите по определяне на изпълнител от страна на бенефициенти на договорена безвъзмездна финансова помощ по ПМС № 55 са посочени препоръчителни размери на финансовите корекции в приложение № 3 към методолог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ато проведената процедура за определяне на изпълнител е под стойностните прагове, определени в Директива 2004/17/ЕО и Директива 2004/18/ЕО, следва да бъде приложена финансова корекция в размер на 50% от посочения препоръчителен размер за съответната категория нередност в приложение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5:28:34Z</dcterms:created>
  <dc:creator>Milena Pehlivanova</dc:creator>
  <dc:description/>
  <dc:language>en-US</dc:language>
  <cp:lastModifiedBy>k.hitrova</cp:lastModifiedBy>
  <dcterms:modified xsi:type="dcterms:W3CDTF">2010-07-19T06:35:09Z</dcterms:modified>
  <cp:revision>166</cp:revision>
  <dc:subject/>
  <dc:title>НАЦИОНАЛНА СТРАТЕГИЧЕСКА РЕФЕРЕНТНА РАМКА </dc:title>
</cp:coreProperties>
</file>