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562C-8174-4127-AD72-0D23F27A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883-CA0B-4B1D-9E47-6351AA00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5E4-8C1B-4C34-B5B3-0EB2D72E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BE6-9BF0-4FB2-9DD1-678CC5E9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93BB-A50A-4DC1-A5C9-F9131090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A702-3537-46CF-86C0-275C1B0E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8C09-3FB2-4571-8130-15C160F0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5F76-56E1-40AD-891C-7E0D7AE7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F8B6-5270-46B1-9A87-44BDE95F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C040-6709-47B4-8E9F-45DEE73B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207C-95D4-4866-B5A4-42F5D6B3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CA7-70B1-404E-8592-97044364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7349-36D6-4DFF-BE1A-6E67D094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6E29-05A2-402E-BA5E-312404B6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D966-E4A0-4D76-BBB5-90B89F25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8644-88B8-4534-A5DE-7B8466EB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9E38-7614-46AC-AD2A-6403315C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DA5-2098-41CF-AD91-A1B86B00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B2E-58F5-4792-AA5E-CE73BBF9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97C-6DF1-4303-9A31-4C7A7A59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B61-F583-4B4D-AC8B-69CE1AA5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C7B-B9BB-4347-A047-29064913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D7A-487C-464D-B7EC-A4D4D472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3E0-8A5C-48EB-B8EA-1355F277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49EC-9D1C-4CBE-ABD1-AF436C9873A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6E94-A6AB-4D09-86D7-F178E1F1BA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1327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ffff00"/>
                </a:solidFill>
                <a:uFillTx/>
                <a:latin typeface="Arial"/>
              </a:rPr>
              <a:t>МИНИСТЕРСТВО НА РЕГИОНАЛНОТО РАЗВИТИЕ И БЛАГОУСТРОЙСТВОТО</a:t>
            </a:r>
            <a:br>
              <a:rPr sz="1600"/>
            </a:br>
            <a:r>
              <a:rPr b="1" lang="bg-BG" sz="1600" spc="-1" strike="noStrike" u="sng">
                <a:solidFill>
                  <a:srgbClr val="ffff00"/>
                </a:solidFill>
                <a:uFillTx/>
                <a:latin typeface="Arial"/>
              </a:rPr>
              <a:t>ГЛАВНА ДИРЕКЦИЯ “ПРОГРАМИРАНЕ НА РЕГИОНАЛНОТО РАЗВИТИЕ”</a:t>
            </a:r>
            <a:br>
              <a:rPr sz="16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bg-BG" sz="2400" spc="-1" strike="noStrike">
                <a:solidFill>
                  <a:srgbClr val="ccecff"/>
                </a:solidFill>
                <a:latin typeface="Arial"/>
              </a:rPr>
              <a:t>ОПЕРАТИВНА ПРОГРАМА </a:t>
            </a:r>
            <a:br>
              <a:rPr sz="2400"/>
            </a:br>
            <a:r>
              <a:rPr b="1" lang="bg-BG" sz="2400" spc="-1" strike="noStrike">
                <a:solidFill>
                  <a:srgbClr val="ccecff"/>
                </a:solidFill>
                <a:latin typeface="Arial"/>
              </a:rPr>
              <a:t>„РЕГИОНАЛНО РАЗВИТИЕ” 2007-2013г.</a:t>
            </a:r>
            <a:r>
              <a:rPr b="1" lang="bg-BG" sz="1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ПЛАН ЗА ОЦЕНКА</a:t>
            </a:r>
            <a:br>
              <a:rPr sz="2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Приемане, преглед и актуализация на плана за оценк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2818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Планът за текуща оценка на ОПРР се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одобрява от Ръководителя на Управляващия орган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по предложение на ръководителя на сектор „Оценка” след отчитане на мнението на заинтересованите звена в УО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След неговото одобряване планът за текуща оценка се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представя на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Комитета за наблюдение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за бележки и коментар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Редовен преглед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на плана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за оценка се осъществява от Насочващата група за оценка на ОПРР веднъж годишно преди пролетното заседание на Комитета за наблюд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змененията в плана за оценка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се одобряват от Ръководителя на Управляващия орган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и се представят на заседанието на Комитета за наблюдени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егледът на плана за оценка включва и изготвянето на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годишен отчет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за изпълнението на плана за оценка, който се представя на Комитета за наблюд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Независимост на оценяването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364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В съответствие с </a:t>
            </a:r>
            <a:r>
              <a:rPr b="0" i="1" lang="bg-BG" sz="1600" spc="-1" strike="noStrike">
                <a:solidFill>
                  <a:srgbClr val="ffff00"/>
                </a:solidFill>
                <a:latin typeface="Verdana"/>
              </a:rPr>
              <a:t>принципа за независимост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 заложен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в чл. 47 [3] на Регламент на Съвета (EО) No 1083/2006, планираните оценки ще се осъществяват от експерти или органи, които са функционално независими от сертифициращите и одитиращите орган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В по-голямата част от случаите в съответствие с международно приетите стандарти оценителите ще бъдат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независими и от Управляващия орган на ОПР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Предвижда се преобладаващата част от оценките на ОПРР да бъдат извършвани от </a:t>
            </a:r>
            <a:r>
              <a:rPr b="1" i="1" lang="bg-BG" sz="1600" spc="-1" strike="noStrike">
                <a:solidFill>
                  <a:srgbClr val="ffff00"/>
                </a:solidFill>
                <a:latin typeface="Verdana"/>
              </a:rPr>
              <a:t>външни оценители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,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подбрани чрез процедури по Закона за обществените поръчки на основата на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ясно дефинирани критерии, гарантиращи качество и професионализъ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4358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Използване и разпространение на резултатите от оценките</a:t>
            </a:r>
            <a:br>
              <a:rPr sz="4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1583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новните (потенциални) потребители на информация за текущите оценки на ОПРР включват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Управляващият орган на ОПР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Комитетът за наблюдение на ОПР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Централното координационно звено и управляващите органи на други оперативни програм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Европейската комис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Потенциалните оценител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Бенефициентите на ОПРР (по-специално от гледна точка на разпространението и използването на резултатите от оценкит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Разпространение на окончателни резултати, изводи и препоръки от оценкит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20872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Цялостните доклади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т оценките се предоставят на ключови заинтересовани, например отдели в УО и членове на КН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Резюме от докладите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а български и английски език се публикува в официалния сайт на Оперативната програм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Работни срещи, дискусии, семинари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ще се провеждат по преценка за по-широко обсъждане на резултатите и препоръките от оценкит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Други информационни материали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(брошури, бюлетини, публикации, прес-съобщения и др.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ще се изготвят по преценка за по-широко разпростран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Годишният преглед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на осъществените оценки, техните основни резултати и препоръки се публикува (изцяло или в резюме) на официалния сайт на ОПРР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ите резултати от оценките се включват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в годишния доклад за изпълнението на ОПР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по чл. 67 от Регламент 1083/ 2006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640" y="2637000"/>
            <a:ext cx="81583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Благодаря за вниманието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ffff00"/>
                </a:solidFill>
                <a:uFillTx/>
                <a:latin typeface="Verdana"/>
              </a:rPr>
              <a:t>ГЛАВНА ДИРЕКЦИЯ “ПРОГРАМИРАНЕ НА РЕГИОНАЛНОТО РАЗВИТИЕ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WWW.BGREGIO.E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9036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8000" y="1413000"/>
            <a:ext cx="903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200" spc="-1" strike="noStrike" u="sng">
                <a:solidFill>
                  <a:srgbClr val="ffff00"/>
                </a:solidFill>
                <a:uFillTx/>
                <a:latin typeface="Arial"/>
              </a:rPr>
              <a:t>Необходимост и значение на плана за оценка на ОПРР</a:t>
            </a:r>
            <a:br>
              <a:rPr sz="2200"/>
            </a:b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Оценяването е </a:t>
            </a: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ключов компонент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в процесите на програмиране и управление на Структурните и Кохезионния фондов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Общата цел на оценяването в контекста на Структурните фондове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е „да се подобри качеството, ефективността и съгласуваността на подкрепата от фондовете и стратегията и изпълнението на оперативните програми по отношение на специфичните структурни проблеми, засягащи държавата-членка…...” (Регламент на Съвета 1083/ 2006, чл. 47 (1)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Ползите от оценяването се изразяват в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подобряване на насочването на ресурсите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подобряване на управлението на програмите чрез идентифициране на това какво работи и какво не, 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осигуряване на необходимата отчетност пред данъкоплатците, в т.ч. чрез демонстриране на въздействията на интервенциит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1413000"/>
            <a:ext cx="837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Същност</a:t>
            </a:r>
            <a:r>
              <a:rPr b="1" lang="bg-BG" sz="2000" spc="-1" strike="noStrike" u="sng">
                <a:solidFill>
                  <a:srgbClr val="ffff00"/>
                </a:solidFill>
                <a:uFillTx/>
                <a:latin typeface="Arial"/>
              </a:rPr>
              <a:t> и цел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на Плана за оценка на ОПРР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анът за оценка е начин за структуриране на дейностите по осъществяване на текуща оценка. Той създава подходящ </a:t>
            </a: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механизъм за своевременно идентифициране и иницииране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на необходимите и достатъчни оценки и за осигуряване на тяхното осъществяване и използван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анът за оценка на ОПРР е изготвен въз основа на анализ и прилагане на изискванията и препоръките на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Регламент 1083/2006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на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Методически документ № 5 на Европейската комис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Основната цел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на плана за оценка е да се създаде обща рамка за текущото оценяване и да се осигури нейното ефективно използване и интегриране като инструмент за управление през фазата на изпълнение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на Оперативната програма.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Предвидени действия в плана за оценка (1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ланът за оценка предвижда няколко типа действия, които са пряк обект на планиране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)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Задължителни оценки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изисквани при установяване на съществени отклонения от първоначално набелязаните цели и при предложения за съществени промени в оперативната програма (Чл.48 (3) от Регламент 1083/2006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Конкретни оценки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пределени въз основа на оценените към момента на изготвяне на плана нужди, свързани с управлението на оперативната програм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Предвидени действия в плана за оценка (2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)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Подкрепящи дейности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сигуряващи предпоставки за ефективно провеждане на оценките – разработване на методики, стандарти, проучвания за набиране на информация и д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)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Осигуряване на връзка със системата за наблюдени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като важен механизъм за иницииране на оценки и основен източник за тяхното информационно осигуряван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) Действия по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разпространение и използване на резултатите от осъществените оценки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както и по периодичния преглед и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актуализация на плана за оценк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Индикативен списък, график и финансови ресурс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46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ланираните дейности за текущо оценяване представляват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0,2 %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от общите финансови ресурси на ОПР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6,1%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от финансовите ресурси на Приоритетна ос 5 „Техническа помощ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50920" y="3281400"/>
          <a:ext cx="8783640" cy="30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281400"/>
                    <a:ext cx="87836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31920" y="349200"/>
          <a:ext cx="8246880" cy="692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349200"/>
                    <a:ext cx="8246880" cy="692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25440" y="592200"/>
          <a:ext cx="8205840" cy="549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592200"/>
                    <a:ext cx="820584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Задължения и отговорности за провеждане на оценкит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пълнението на Плана за оценка на ОПРР се осъществява посредством тристепенна система за управление, включващ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Verdana"/>
              </a:rPr>
              <a:t>Управляващия орган на ОПРР,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тговорен 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за осигуряване на цялостната организация, координация и изпълнение на Плана за оценка в съответствие с принципите и разпоредбите на Структурните фондове на ЕС и на българското законодателств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Verdana"/>
              </a:rPr>
              <a:t>Насочваща група за оценка на ОПРР,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чиято основна функция е да подпомага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 осъществяването на координация и обмен на информация по въпросите, свързани с оценката на ОПР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Verdana"/>
              </a:rPr>
              <a:t>Комитета за наблюдение на ОПРР,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който прави периодичен преглед на резултатите от оценките и 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прилагането на направените препорък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8:18Z</dcterms:created>
  <dc:creator>boshikyovd</dc:creator>
  <dc:description/>
  <dc:language>en-US</dc:language>
  <cp:lastModifiedBy>tozeval</cp:lastModifiedBy>
  <dcterms:modified xsi:type="dcterms:W3CDTF">2009-08-31T14:39:53Z</dcterms:modified>
  <cp:revision>109</cp:revision>
  <dc:subject/>
  <dc:title>ПЛАН ЗА ОЦЕНКА НА ОПЕРАТИВНА ПРОГРАМА „РЕГИОНАЛНО РАЗВИТИЕ” 2007-2013</dc:title>
</cp:coreProperties>
</file>