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B42-54BC-4BB0-A474-B2CAF594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CCC-B7D2-4759-A8F2-AFBBF94D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970-D3CC-4F77-8FEE-8906161B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8F0-00D9-4E62-8EBF-0E2E7BDC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1230-4EC6-4877-80A6-64E0E877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B1D9-C401-4669-B5DE-E5111192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FA1B-9EF1-4087-A742-87F771C6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9E23-F3F5-4D35-B251-B9C059FB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8524-1B0E-442E-944A-412DB6D6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1853-9521-43F2-90E6-F3089971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5B6D-B7B4-4A48-97B7-906B439D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349-B23B-4422-872C-D0B4A444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8D10-C51A-408A-8580-6EEBB06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0C24-40F0-4F91-9202-4081034B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6D45-D735-40D8-BA7D-6857A883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8EFA-7DDD-4C9D-83C0-6720193A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4FBA-2A70-4004-A887-ACB1E7B2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F7B7-FBAE-469B-979F-C99837AE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A91-C05A-4973-9C74-E5D63CE6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9FB-555B-41A9-98CA-F1E45D49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07A-052A-425F-9779-D5EA4B8D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213-9D3A-4576-B31B-5DA3DEC3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360-205D-4940-979B-53868036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9F1-A2E1-4F52-B150-AAE2C61B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DEA7-D983-4647-ADBD-E1DCDD9DA0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07F5-FBFD-449F-B894-5A0607A8386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1989000"/>
            <a:ext cx="81327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 u="sng">
                <a:solidFill>
                  <a:srgbClr val="ffff00"/>
                </a:solidFill>
                <a:uFillTx/>
                <a:latin typeface="Arial"/>
              </a:rPr>
              <a:t>МИНИСТЕРСТВО НА РЕГИОНАЛНОТО РАЗВИТИЕ И БЛАГОУСТРОЙСТВОТО</a:t>
            </a:r>
            <a:br>
              <a:rPr sz="1600"/>
            </a:br>
            <a:r>
              <a:rPr b="1" lang="bg-BG" sz="1600" spc="-1" strike="noStrike" u="sng">
                <a:solidFill>
                  <a:srgbClr val="ffff00"/>
                </a:solidFill>
                <a:uFillTx/>
                <a:latin typeface="Arial"/>
              </a:rPr>
              <a:t>ГЛАВНА ДИРЕКЦИЯ “ПРОГРАМИРАНЕ НА РЕГИОНАЛНОТО РАЗВИТИЕ”</a:t>
            </a:r>
            <a:br>
              <a:rPr sz="16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bg-BG" sz="2400" spc="-1" strike="noStrike">
                <a:solidFill>
                  <a:srgbClr val="ccecff"/>
                </a:solidFill>
                <a:latin typeface="Arial"/>
              </a:rPr>
              <a:t>ОПЕРАТИВНА ПРОГРАМА </a:t>
            </a:r>
            <a:br>
              <a:rPr sz="2400"/>
            </a:br>
            <a:r>
              <a:rPr b="1" lang="bg-BG" sz="2400" spc="-1" strike="noStrike">
                <a:solidFill>
                  <a:srgbClr val="ccecff"/>
                </a:solidFill>
                <a:latin typeface="Arial"/>
              </a:rPr>
              <a:t>„РЕГИОНАЛНО РАЗВИТИЕ” 2007-2013г.</a:t>
            </a:r>
            <a:r>
              <a:rPr b="1" lang="bg-BG" sz="1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bg-BG" sz="2400" spc="-1" strike="noStrike">
                <a:solidFill>
                  <a:srgbClr val="ffff00"/>
                </a:solidFill>
                <a:latin typeface="Arial"/>
              </a:rPr>
              <a:t>ПЛАН ЗА ОЦЕНКА</a:t>
            </a:r>
            <a:br>
              <a:rPr sz="2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4130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риемане, преглед и актуализация на плана за оценк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2818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Планът за текуща оценка на ОПРР се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одобрява от Ръководителя на Управляващия орган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по предложение на ръководителя на сектор „Оценка” след отчитане на мнението на заинтересованите звена в УО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След неговото одобряване планът за текуща оценка се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представя на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Комитета за наблюдение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за бележки и коментар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Редовен преглед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на плана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за оценка се осъществява от Насочващата група за оценка на ОПРР веднъж годишно преди пролетното заседание на Комитета за наблюд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Измененията в плана за оценка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се одобряват от Ръководителя на Управляващия орган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и се представят на заседанието на Комитета за наблюдени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егледът на плана за оценка включва и изготвянето на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годишен отчет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за изпълнението на плана за оценка, който се представя на Комитета за наблюд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Независимост на оценяването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364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В съответствие с </a:t>
            </a:r>
            <a:r>
              <a:rPr b="0" i="1" lang="bg-BG" sz="1600" spc="-1" strike="noStrike">
                <a:solidFill>
                  <a:srgbClr val="ffff00"/>
                </a:solidFill>
                <a:latin typeface="Verdana"/>
              </a:rPr>
              <a:t>принципа за независимост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 заложен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в чл. 47 [3] на Регламент на Съвета (EО) No 1083/2006, планираните оценки ще се осъществяват от експерти или органи, които са функционално независими от сертифициращите и одитиращите орган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В по-голямата част от случаите в съответствие с международно приетите стандарти оценителите ще бъдат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независими и от Управляващия орган на ОПРР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Предвижда се преобладаващата част от оценките на ОПРР да бъдат извършвани от </a:t>
            </a:r>
            <a:r>
              <a:rPr b="1" i="1" lang="bg-BG" sz="1600" spc="-1" strike="noStrike">
                <a:solidFill>
                  <a:srgbClr val="ffff00"/>
                </a:solidFill>
                <a:latin typeface="Verdana"/>
              </a:rPr>
              <a:t>външни оценители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,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подбрани чрез процедури по Закона за обществените поръчки на основата на </a:t>
            </a: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ясно дефинирани критерии, гарантиращи качество и професионализъм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1413000"/>
            <a:ext cx="84358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Използване и разпространение на резултатите от оценките</a:t>
            </a:r>
            <a:br>
              <a:rPr sz="4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349360"/>
            <a:ext cx="81583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ните (потенциални) потребители на информация за текущите оценки на ОПРР включва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Управляващият орган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Комитетът за наблюдение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Централното координационно звено и управляващите органи на други оперативни програм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Европейската комис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Потенциалните оценител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Бенефициентите на ОПРР (по-специално от гледна точка на разпространението и използването на резултатите от оценките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Разпространение на окончателни резултати, изводи и препоръки от оценкит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208720" cy="41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Цялостните доклади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т оценките се предоставят на ключови заинтересовани, например отдели в УО и членове на КН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Резюме от докладите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а български и английски език се публикува в официалния сайт на Оперативната програма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Работни срещи, дискусии, семинари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ще се провеждат по преценка за по-широко обсъждане на резултатите и препоръките от оценкит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Други информационни материали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(брошури, бюлетини, публикации, прес-съобщения и др.)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ще се изготвят по преценка за по-широко разпростран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00"/>
                </a:solidFill>
                <a:latin typeface="Verdana"/>
              </a:rPr>
              <a:t>Годишният преглед</a:t>
            </a:r>
            <a:r>
              <a:rPr b="0" lang="bg-BG" sz="1600" spc="-1" strike="noStrike">
                <a:solidFill>
                  <a:srgbClr val="ffffff"/>
                </a:solidFill>
                <a:latin typeface="Verdana"/>
              </a:rPr>
              <a:t> на осъществените оценки, техните основни резултати и препоръки се публикува (изцяло или в резюме) на официалния сайт на ОПРР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сновните резултати от оценките се включват </a:t>
            </a:r>
            <a:r>
              <a:rPr b="0" lang="ru-RU" sz="1600" spc="-1" strike="noStrike">
                <a:solidFill>
                  <a:srgbClr val="ffff00"/>
                </a:solidFill>
                <a:latin typeface="Verdana"/>
              </a:rPr>
              <a:t>в годишния доклад за изпълнението на ОПРР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по чл. 67 от Регламент 1083/ 20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9640" y="2637000"/>
            <a:ext cx="81583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Благодаря за вниманието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 u="sng">
                <a:solidFill>
                  <a:srgbClr val="ffff00"/>
                </a:solidFill>
                <a:uFillTx/>
                <a:latin typeface="Verdana"/>
              </a:rPr>
              <a:t>ГЛАВНА ДИРЕКЦИЯ “ПРОГРАМИРАНЕ НА РЕГИОНАЛНОТО РАЗВИТИЕ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WWW.BGREGIO.E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036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1413000"/>
            <a:ext cx="903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200" spc="-1" strike="noStrike" u="sng">
                <a:solidFill>
                  <a:srgbClr val="ffff00"/>
                </a:solidFill>
                <a:uFillTx/>
                <a:latin typeface="Arial"/>
              </a:rPr>
              <a:t>Необходимост и значение на плана за оценка на ОПРР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Оценяването е </a:t>
            </a: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ключов компонент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в процесите на програмиране и управление на Структурните и Кохезионния фондове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Общата цел на оценяването в контекста на Структурните фондове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е „да се подобри качеството, ефективността и съгласуваността на подкрепата от фондовете и стратегията и изпълнението на оперативните програми по отношение на специфичните структурни проблеми, засягащи държавата-членка…...” (Регламент на Съвета 1083/ 2006, чл. 47 (1)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Ползите от оценяването се изразяват в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подобряване на насочването на ресурсите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подобряване на управлението на програмите чрез идентифициране на това какво работи и какво не, 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осигуряване на необходимата отчетност пред данъкоплатците, в т.ч. чрез демонстриране на въздействията на интервенциит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3743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ъщност</a:t>
            </a:r>
            <a:r>
              <a:rPr b="1" lang="bg-BG" sz="2000" spc="-1" strike="noStrike" u="sng">
                <a:solidFill>
                  <a:srgbClr val="ffff00"/>
                </a:solidFill>
                <a:uFillTx/>
                <a:latin typeface="Arial"/>
              </a:rPr>
              <a:t> и цел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на Плана за оценка на ОПРР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0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нът за оценка е начин за структуриране на дейностите по осъществяване на текуща оценка. Той създава подходящ </a:t>
            </a:r>
            <a:r>
              <a:rPr b="0" lang="bg-BG" sz="1800" spc="-1" strike="noStrike">
                <a:solidFill>
                  <a:srgbClr val="ffff00"/>
                </a:solidFill>
                <a:latin typeface="Verdana"/>
              </a:rPr>
              <a:t>механизъм за своевременно идентифициране и иницииране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 на необходимите и достатъчни оценки и за осигуряване на тяхното осъществяване и използван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анът за оценка на ОПРР е изготвен въз основа на анализ и прилагане на изискванията и препоръките на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Регламент 1083/2006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на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Методически документ № 5 на Европейската комиси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Основната цел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на плана за оценка е да се създаде обща рамка за текущото оценяване и да се осигури нейното ефективно използване и интегриране като инструмент за управление през фазата на изпълнение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ffffff"/>
                </a:solidFill>
                <a:latin typeface="Verdana"/>
              </a:rPr>
              <a:t>на Оперативната програма.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Предвидени действия в плана за оценка (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ланът за оценка предвижда няколко типа действия, които са пряк обект на планиран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Задължителни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изисквани при установяване на съществени отклонения от първоначално набелязаните цели и при предложения за съществени промени в оперативната програма (Чл.48 (3) от Регламент 1083/2006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Конкретни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пределени въз основа на оценените към момента на изготвяне на плана нужди, свързани с управлението на оперативната програм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Предвидени действия в плана за оценка (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Подкрепящи дейност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осигуряващи предпоставки за ефективно провеждане на оценките – разработване на методики, стандарти, проучвания за набиране на информация и др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)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Осигуряване на връзка със системата за наблюд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като важен механизъм за иницииране на оценки и основен източник за тяхното информационно осигуряване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) Действия по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разпространение и използване на резултатите от осъществените оценки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както и по периодичния преглед и </a:t>
            </a: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актуализация на плана за оцен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Индикативен списък, график и финансови ресурс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46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ланираните дейности за текущо оценяване представляват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0,2 %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от общите финансови ресурси на ОПР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6,1%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от финансовите ресурси на Приоритетна ос 5 „Техническа помощ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50920" y="3281400"/>
          <a:ext cx="8783640" cy="30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81400"/>
                    <a:ext cx="87836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331920" y="349200"/>
          <a:ext cx="8246880" cy="692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349200"/>
                    <a:ext cx="8246880" cy="692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25440" y="592200"/>
          <a:ext cx="8205840" cy="549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592200"/>
                    <a:ext cx="820584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Задължения и отговорности за провеждане на оценките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зпълнението на Плана за оценка на ОПРР се осъществява посредством тристепенна система за управление, включващ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Управляващия орган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тговорен 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за осигуряване на цялостната организация, координация и изпълнение на Плана за оценка в съответствие с принципите и разпоредбите на Структурните фондове на ЕС и на българското законодателство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Насочваща група за оценка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чиято основна функция е да подпомага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 осъществяването на координация и обмен на информация по въпросите, свързани с оценката на ОПР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Комитета за наблюдение на ОПРР,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който прави периодичен преглед на резултатите от оценките и </a:t>
            </a:r>
            <a:r>
              <a:rPr b="0" lang="bg-BG" sz="2000" spc="-1" strike="noStrike">
                <a:solidFill>
                  <a:srgbClr val="ffffff"/>
                </a:solidFill>
                <a:latin typeface="Verdana"/>
              </a:rPr>
              <a:t>прилагането на направените препоръки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8:18Z</dcterms:created>
  <dc:creator>boshikyovd</dc:creator>
  <dc:description/>
  <dc:language>en-US</dc:language>
  <cp:lastModifiedBy>tozeval</cp:lastModifiedBy>
  <dcterms:modified xsi:type="dcterms:W3CDTF">2009-08-31T14:39:53Z</dcterms:modified>
  <cp:revision>109</cp:revision>
  <dc:subject/>
  <dc:title>ПЛАН ЗА ОЦЕНКА НА ОПЕРАТИВНА ПРОГРАМА „РЕГИОНАЛНО РАЗВИТИЕ” 2007-2013</dc:title>
</cp:coreProperties>
</file>