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B311-258C-4D19-B74A-FAB0FE99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7F5D-6A20-4898-9782-9DA69C5D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C36-5786-46D4-A26B-138E44BD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4743-D4B8-401A-B0A5-99615437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6E01-FCB8-42CC-8A1E-720C9A2D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0AE8-7821-4EA8-A09B-AB1A5E5F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F492-049F-47E8-9B8B-550EEB19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EC7C-6FF0-471A-A602-B52D1890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FA6E-4EB2-4763-BBEB-A41FA2E0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A71C-F773-4CB2-B7DC-48CD1604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09B9-AADA-4891-A4FC-C58552BB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2389-C168-4767-8BE9-780A9EE4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2210-7D4B-45A1-B3C2-203B4FA4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70D2-2984-49A9-823D-90594B9E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0702-A34C-4327-80DD-44F0ABE8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E8AE-AD57-4CDA-9BF2-71A47746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AF51-ACFF-4469-B023-BF77E37C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6BE4-AE8D-49D5-86A5-602355F3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7EDE-762A-4283-9B72-DDDA3FB4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9258-6572-4DD1-9AD4-EAF11A5F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AAE-CF20-4733-924E-FF5FDA85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6608-6406-4FA3-A0B6-E259FB57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2B0-744A-4756-936B-E1F7D386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805A-A0EA-459B-9CFE-BEC7E6D6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138E-0777-426F-BE5B-449D925D3FE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6D48-E488-4E45-95B4-A00C345533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3B6D-177A-4F3E-9E9A-2360A4025F9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BC0C-7630-4581-9D8C-6959C34695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oprd@mrrb.government.bg" TargetMode="External"/><Relationship Id="rId3" Type="http://schemas.openxmlformats.org/officeDocument/2006/relationships/hyperlink" Target="http://www.bgregio.e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23640" y="2205000"/>
            <a:ext cx="856908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 u="sng">
                <a:solidFill>
                  <a:srgbClr val="ffff00"/>
                </a:solidFill>
                <a:uFillTx/>
                <a:latin typeface="Arial"/>
              </a:rPr>
              <a:t>МИНИСТЕРСТВО НА РЕГИОНАЛНОТО РАЗВИТИЕ И БЛАГОУСТРОЙСТВОТ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ffff00"/>
                </a:solidFill>
                <a:uFillTx/>
                <a:latin typeface="Arial"/>
              </a:rPr>
              <a:t>ГЛАВНА ДИРЕКЦИЯ “ПРОГРАМИРАНЕ НА РЕГИОНАЛНОТО РАЗВИТИЕ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00"/>
                </a:solidFill>
                <a:latin typeface="Arial"/>
              </a:rPr>
              <a:t>Комуникационен пла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00"/>
                </a:solidFill>
                <a:latin typeface="Arial"/>
              </a:rPr>
              <a:t>за информация и публичнос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00"/>
                </a:solidFill>
                <a:latin typeface="Arial"/>
              </a:rPr>
              <a:t>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00"/>
                </a:solidFill>
                <a:latin typeface="Arial"/>
              </a:rPr>
              <a:t>Оперативна програма “Регионално развитие”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2007 – 2013 </a:t>
            </a:r>
            <a:r>
              <a:rPr b="1" lang="bg-BG" sz="2600" spc="-1" strike="noStrike">
                <a:solidFill>
                  <a:srgbClr val="ffff00"/>
                </a:solidFill>
                <a:latin typeface="Arial"/>
              </a:rPr>
              <a:t>г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 Юли 200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995640" y="404640"/>
            <a:ext cx="1368360" cy="122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949-05B6-4FC9-9705-F0D9B26142F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1680" y="2349360"/>
            <a:ext cx="808668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Индикативни финансови ресурси – Операция 5.2. от ОПР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1600" spc="-1" strike="noStrike">
                <a:solidFill>
                  <a:srgbClr val="ffcc00"/>
                </a:solidFill>
                <a:latin typeface="Arial"/>
              </a:rPr>
              <a:t>Общ бюджет – 10 милиона евр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Интернет страница (€</a:t>
            </a: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30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Публикации (€896</a:t>
            </a: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62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Информационни събития (€2,000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Контакти с медиите (€600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Оценка (€482,35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Аудиовизуални продукти и продукции (€5,068,075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Социологически проучвания и изследвания (€922,94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Година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       2007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   2008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  2009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2010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2011         2012         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Бюджет €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1 565 750    1 700 500    1 205 050     1 922 027    1 800 200     1 806 47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995640" y="333360"/>
            <a:ext cx="1368360" cy="12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8C09-49DF-4BD8-A7BE-63FB834A2F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3640" y="2205000"/>
            <a:ext cx="85690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cc00"/>
                </a:solidFill>
                <a:latin typeface="Arial"/>
              </a:rPr>
              <a:t>Благодаря за вниманието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ИНВЕСТИРАМЕ ВЪВ ВАШЕТО БЪДЕЩЕ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www.bgregio.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067280" y="333360"/>
            <a:ext cx="1368360" cy="12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11E5-BC9B-4B78-80A5-A39742B62EB5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1680" y="2276640"/>
            <a:ext cx="854064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ff00"/>
                </a:solidFill>
                <a:latin typeface="Arial"/>
              </a:rPr>
              <a:t>Нормативна баз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ff00"/>
                </a:solidFill>
                <a:latin typeface="Arial"/>
              </a:rPr>
              <a:t>Регламент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(EC) No 1083 </a:t>
            </a:r>
            <a:r>
              <a:rPr b="1" lang="bg-BG" sz="1200" spc="-1" strike="noStrike">
                <a:solidFill>
                  <a:srgbClr val="ffff00"/>
                </a:solidFill>
                <a:latin typeface="Arial"/>
              </a:rPr>
              <a:t>от 11 юли 2006 год. и по-специално член 69, който въвежда общи изисквания по отношение на Структурните фондов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ff00"/>
                </a:solidFill>
                <a:latin typeface="Arial"/>
              </a:rPr>
              <a:t>Регламент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EC) No 1159 </a:t>
            </a:r>
            <a:r>
              <a:rPr b="1" lang="bg-BG" sz="1200" spc="-1" strike="noStrike">
                <a:solidFill>
                  <a:srgbClr val="ffff00"/>
                </a:solidFill>
                <a:latin typeface="Arial"/>
              </a:rPr>
              <a:t>от май 2000 год., който въвежда информационни и рекламни практики, които страните членки трябва да спазват във връзка с използването на Структурните фондове. Особено внимание също така се обръща на различните регламенти на Общността, касаещи представянето на емблемата на ЕС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ff00"/>
                </a:solidFill>
                <a:latin typeface="Arial"/>
              </a:rPr>
              <a:t>Регламент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EC) No 1828 </a:t>
            </a:r>
            <a:r>
              <a:rPr b="1" lang="bg-BG" sz="1200" spc="-1" strike="noStrike">
                <a:solidFill>
                  <a:srgbClr val="ffff00"/>
                </a:solidFill>
                <a:latin typeface="Arial"/>
              </a:rPr>
              <a:t>от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8 </a:t>
            </a:r>
            <a:r>
              <a:rPr b="1" lang="bg-BG" sz="1200" spc="-1" strike="noStrike">
                <a:solidFill>
                  <a:srgbClr val="ffff00"/>
                </a:solidFill>
                <a:latin typeface="Arial"/>
              </a:rPr>
              <a:t>Декември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2006</a:t>
            </a:r>
            <a:r>
              <a:rPr b="1" lang="bg-BG" sz="1200" spc="-1" strike="noStrike">
                <a:solidFill>
                  <a:srgbClr val="ffff00"/>
                </a:solidFill>
                <a:latin typeface="Arial"/>
              </a:rPr>
              <a:t> год., който въвежда правилата за прилагането на Регламент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(EC) No 1083/2006</a:t>
            </a:r>
            <a:r>
              <a:rPr b="1" lang="bg-BG" sz="1200" spc="-1" strike="noStrike">
                <a:solidFill>
                  <a:srgbClr val="ffff00"/>
                </a:solidFill>
                <a:latin typeface="Arial"/>
              </a:rPr>
              <a:t>година.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ff00"/>
                </a:solidFill>
                <a:latin typeface="Arial"/>
              </a:rPr>
              <a:t>Задължителни изисквания към съдържанието на Комуникационния план според Регламент 1828/2006 г.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ff00"/>
                </a:solidFill>
                <a:latin typeface="Arial"/>
              </a:rPr>
              <a:t>Цели и целеви груп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ff00"/>
                </a:solidFill>
                <a:latin typeface="Arial"/>
              </a:rPr>
              <a:t>Планирани дей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ff00"/>
                </a:solidFill>
                <a:latin typeface="Arial"/>
              </a:rPr>
              <a:t>Индикативен бюдж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ff00"/>
                </a:solidFill>
                <a:latin typeface="Arial"/>
              </a:rPr>
              <a:t>Административната структура отговорна за изпълнение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ff00"/>
                </a:solidFill>
                <a:latin typeface="Arial"/>
              </a:rPr>
              <a:t>Индикатори за оценка на изпълнение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36000" cy="2060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995640" y="333360"/>
            <a:ext cx="1368360" cy="12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818-D0BF-4609-A671-A1FE0AA463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1680" y="2349360"/>
            <a:ext cx="8540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сновната цел на Комуникационния план на ОПРР е привличане на обществения интерес, повишаване на обществената информираност за ЕФРР и ОПРР през периода 2007-2013 г. и осигуряване на прозрачност и откритост при нейното изпълне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пецифични ц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Привличане на обществения интерес и повишаване на обществената информираност за обхвата, целите и резултатите на ОПРР и за финансовия принос на Общностт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Привличане на интереса на потенциалните бенефициенти на ОПРР, информиране за финансовите възможности, предоставени от ЕФРР чрез ОПРР и разясняване на критериите за допустимост по операциите на Програмат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Запознаване на бенефициентите с техните отговорности при изпълнението на проекти съфинансирани по ОПРР, включително със задълженията им за предоставяне на информация и публичност, свързани с реализацията на техните проект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36000" cy="2060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995640" y="333360"/>
            <a:ext cx="1368360" cy="12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BFDB-EF5D-414C-9F9D-75BF942B08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1680" y="2349360"/>
            <a:ext cx="8540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00"/>
                </a:solidFill>
                <a:latin typeface="Arial"/>
              </a:rPr>
              <a:t>Комуникационният план има 3 целеви груп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Вътрешна целева груп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Управляващ орган, МРРБ, Комитет за наблюдение, и др. държавни служители свързани с изпълнението на ОПР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Външна целева груп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Потенциални бенефициенти и бенефициенти, социално-икономическите партньори, широката публи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Целева група на посредницит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едии, НПО, представители на отдели за връзки с обществеността в държавни, областни и общински ведомст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36000" cy="2060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995640" y="333360"/>
            <a:ext cx="1368360" cy="12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2391-5468-43A6-B640-323E870338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1680" y="2349360"/>
            <a:ext cx="477504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Комуникационни методи и канал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Пресконферен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Съобщения (електронни и др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Участия в радио и телевизионни информационни преда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Редовни обучителни семинари за журнали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Медиен мониторин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cc00"/>
                </a:solidFill>
                <a:latin typeface="Arial"/>
              </a:rPr>
              <a:t>Брошур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cc00"/>
                </a:solidFill>
                <a:latin typeface="Arial"/>
              </a:rPr>
              <a:t>Насо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cc00"/>
                </a:solidFill>
                <a:latin typeface="Arial"/>
              </a:rPr>
              <a:t>Копия на основни докумен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лектронна поща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bg-BG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oprd@mrrb.government.b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cc00"/>
                </a:solidFill>
                <a:latin typeface="Arial"/>
              </a:rPr>
              <a:t>Интернет страниц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bg-BG" sz="1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1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www.bgregio.e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cc00"/>
                </a:solidFill>
                <a:latin typeface="Arial"/>
              </a:rPr>
              <a:t>Интернет фору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995640" y="33336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4356000" y="2421000"/>
            <a:ext cx="43196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C86-A23B-4783-BA24-1AC00B6638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1680" y="2349360"/>
            <a:ext cx="427032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Комуникационни методи и канал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cc00"/>
                </a:solidFill>
                <a:latin typeface="Arial"/>
              </a:rPr>
              <a:t>Визуална идентичност на ОПР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cc00"/>
                </a:solidFill>
                <a:latin typeface="Arial"/>
              </a:rPr>
              <a:t>Външни мероприят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ffcc00"/>
                </a:solidFill>
                <a:latin typeface="Arial"/>
              </a:rPr>
              <a:t>изискване за поне 2 пресконференции при всеки проект- при откриването и з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ffcc00"/>
                </a:solidFill>
                <a:latin typeface="Arial"/>
              </a:rPr>
              <a:t>завършването м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Откриваща конференц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Годишна конференция за отчитане постигнатото по програм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Телевизионни клипов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Послание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Инвестираме въ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ашето бъдещ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95640" y="33336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104" name="en_oprd_02" descr=""/>
          <p:cNvPicPr/>
          <p:nvPr/>
        </p:nvPicPr>
        <p:blipFill>
          <a:blip r:embed="rId4"/>
          <a:stretch/>
        </p:blipFill>
        <p:spPr>
          <a:xfrm>
            <a:off x="4932360" y="2492280"/>
            <a:ext cx="1486080" cy="1952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148360" y="4869000"/>
            <a:ext cx="1185840" cy="1458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6804000" y="2997360"/>
            <a:ext cx="1984320" cy="28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D17-15ED-4FE7-A021-7D0C51E6EC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1680" y="2349360"/>
            <a:ext cx="427032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995640" y="333360"/>
            <a:ext cx="1368360" cy="1224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11280" y="2276640"/>
            <a:ext cx="561636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В изпълнение на Плана в момента в У</a:t>
            </a:r>
            <a:r>
              <a:rPr b="1" lang="bg-BG" sz="1600" spc="-1" strike="noStrike">
                <a:solidFill>
                  <a:srgbClr val="ffcc00"/>
                </a:solidFill>
                <a:latin typeface="Arial"/>
              </a:rPr>
              <a:t>правляващия 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орган се разработва проектно предложение за финансиране от Техническата помощ на ОПРР за срок от 2 години. В него са заложени за финансиран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идеоклипо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Билборд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Медия мониторин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Семинари за журнали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Социологически проуч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убликуване на материали в печатни медии и платени съобщения в електронни мед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ечатни материали – брошури, формуляри, указ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300720" y="3213000"/>
            <a:ext cx="2592360" cy="186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4A4A-7DEA-4CAE-A268-367DDE237D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1680" y="2349360"/>
            <a:ext cx="491796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Мониторинг и оцен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cc00"/>
                </a:solidFill>
                <a:latin typeface="Arial"/>
              </a:rPr>
              <a:t>Индикатори за оцен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Степен на информираност на общество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Посещения на сайта на ОПР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Брой жители видели и запомнили клиповете и билбордовете на ОПР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Излъчвания  и публикации в медиит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Дял на участниците в семинари (журналисти) увеличили своите позн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Отговорни за изпълнението структур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995640" y="33336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508720" y="2492280"/>
            <a:ext cx="2214360" cy="3210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7164360" y="4365720"/>
            <a:ext cx="1631880" cy="186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6FAD-963F-44ED-AE51-67A9F4BDA8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1680" y="2349360"/>
            <a:ext cx="499104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Насоки към Комуникациония план на ОПР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Насоки за организация на събити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Списък на поканените, информационни пакети, място, участници и т.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Насоки за взаимоотношения с медиит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Факти, доверие и сътрудничество, списък на контактите и д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Насоки за бенефициентит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Лого на ЕС, билбордове, обяснителни таб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995640" y="33336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435640" y="2708280"/>
            <a:ext cx="3384360" cy="26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A927-1AC6-4562-8DF0-2DCF98151D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3:24:11Z</dcterms:created>
  <dc:creator>IvanovaV</dc:creator>
  <dc:description/>
  <dc:language>en-US</dc:language>
  <cp:lastModifiedBy>HristovI</cp:lastModifiedBy>
  <dcterms:modified xsi:type="dcterms:W3CDTF">2008-07-04T08:19:40Z</dcterms:modified>
  <cp:revision>89</cp:revision>
  <dc:subject/>
  <dc:title>Presentation 2</dc:title>
</cp:coreProperties>
</file>