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0C3-D0DF-48A1-98D4-2515AB64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F9E-A8EB-48E1-B99D-77184F8E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D13-CF6C-4C35-9BB7-B2928F2C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06F-7877-473C-B97B-F2B5E8A9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A11-103F-4C9D-9863-BAC729C3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FFC-26B9-4B76-B133-3716BD65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2499-BC09-4486-93E2-6FEFFE26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27E-E05F-4194-B46D-0F3DACBE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439E-ECB2-46D3-94CF-3F633F88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261C-926E-4837-864D-FB4D355A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3F54-A643-4ED9-863E-50C0ED32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692-EB61-4C06-9B75-346BE89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9BCA-409C-44B4-AC8F-F0C2A29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687B-78CF-4764-B9D8-40DC22B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7355-6A5E-40B5-BEA5-DDF7BE9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11E5-AC2E-45E2-B1F2-0D4D833C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DEBE-89B6-4410-8194-2994B29C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05B5-47BA-4E4E-B464-FD6FF05D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734-90CD-4A05-9D1D-45F5D1E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2EF-2970-421B-B182-D859B6B1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19FD-5ED0-4E51-B3CE-BFCDDE4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2FE7-E212-4F7A-8233-83E4BA94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F34-469B-45AE-9618-6B0FBF49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D699-447D-4E5B-98F9-DE9B5D04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A36-940A-478A-8CDD-0CAA55B422F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A985-22B9-474F-98FF-4A10CF9081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BC59-93BE-4EDF-BD6D-CE90F438CD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451-3271-42C8-823E-7DD68743E0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oprd@mrrb.government.bg" TargetMode="External"/><Relationship Id="rId3" Type="http://schemas.openxmlformats.org/officeDocument/2006/relationships/hyperlink" Target="http://www.bgregio.eu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23640" y="2205000"/>
            <a:ext cx="856908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Комуникационен пла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за информация и публичнос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Оперативна програма “Регионално развитие”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2007 – 2013 </a:t>
            </a:r>
            <a:r>
              <a:rPr b="1" lang="bg-BG" sz="2600" spc="-1" strike="noStrike">
                <a:solidFill>
                  <a:srgbClr val="ffff00"/>
                </a:solidFill>
                <a:latin typeface="Arial"/>
              </a:rPr>
              <a:t>г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bg-BG" sz="1800" spc="-1" strike="noStrike">
                <a:solidFill>
                  <a:srgbClr val="ffff00"/>
                </a:solidFill>
                <a:latin typeface="Arial"/>
              </a:rPr>
              <a:t> Юли 200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95640" y="40464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4D3-73B1-428B-A908-82FD0E27FE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80" y="2349360"/>
            <a:ext cx="808668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ндикативни финансови ресурси – Операция 5.2. от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600" spc="-1" strike="noStrike">
                <a:solidFill>
                  <a:srgbClr val="ffcc00"/>
                </a:solidFill>
                <a:latin typeface="Arial"/>
              </a:rPr>
              <a:t>Общ бюджет – 10 милиона евр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нтернет страница (€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30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убликации (€896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62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нформационни събития (€2,000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нтакти с медиите (€600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ценка (€482,35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Аудиовизуални продукти и продукции (€5,068,07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Социологически проучвания и изследвания (€922,94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Година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     2007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 2008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  2009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2011         2012        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Бюджет €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1 565 750    1 700 500    1 205 050     1 922 027    1 800 200     1 806 47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C31A-CD67-4337-B4B3-DD4372146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133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3640" y="2205000"/>
            <a:ext cx="85690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cc00"/>
                </a:solidFill>
                <a:latin typeface="Arial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cc00"/>
                </a:solidFill>
                <a:latin typeface="Arial"/>
              </a:rPr>
              <a:t>ИНВЕСТИРАМЕ ВЪВ ВАШЕТО БЪДЕЩЕ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06728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806-8AFC-4390-A696-BC04A11FB69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2276640"/>
            <a:ext cx="854064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Нормативна ба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EC) No 1083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 11 юли 2006 год. и по-специално член 69, който въвежда общи изисквания по отношение на Структурните фондо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EC) No 1159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 май 2000 год., който въвежда информационни и рекламни практики, които страните членки трябва да спазват във връзка с използването на Структурните фондове. Особено внимание също така се обръща на различните регламенти на Общността, касаещи представянето на емблемата на ЕС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Регламент 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EC) No 1828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о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8 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Декември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2006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 год., който въвежда правилата за прилагането на Регламент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(EC) No 1083/2006</a:t>
            </a:r>
            <a:r>
              <a:rPr b="1" lang="bg-BG" sz="1200" spc="-1" strike="noStrike">
                <a:solidFill>
                  <a:srgbClr val="ffff00"/>
                </a:solidFill>
                <a:latin typeface="Arial"/>
              </a:rPr>
              <a:t>година.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Задължителни изисквания към съдържанието на Комуникационния план според Регламент 1828/2006 г.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Цели и целеви груп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Планирани дей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Индикативен бюдж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Административната структура отговорна за изпълнение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Индикатори за оценка на изпълнение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346-F61D-42F8-B110-D26B49706A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новната цел на Комуникационния план на ОПРР е привличане на обществения интерес, повишаване на обществената информираност за ЕФРР и ОПРР през периода 2007-2013 г. и осигуряване на прозрачност и откритост при нейното изпълн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пецифични це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ичане на обществения интерес и повишаване на обществената информираност за обхвата, целите и резултатите на ОПРР и за финансовия принос на Общност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ивличане на интереса на потенциалните бенефициенти на ОПРР, информиране за финансовите възможности, предоставени от ЕФРР чрез ОПРР и разясняване на критериите за допустимост по операциите на Програм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познаване на бенефициентите с техните отговорности при изпълнението на проекти съфинансирани по ОПРР, включително със задълженията им за предоставяне на информация и публичност, свързани с реализацията на техните проек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48E-2988-48B6-A0F9-769666F46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1680" y="2349360"/>
            <a:ext cx="8540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00"/>
                </a:solidFill>
                <a:latin typeface="Arial"/>
              </a:rPr>
              <a:t>Комуникационният план има 3 целеви груп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ътрешна целева груп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правляващ орган, МРРБ, Комитет за наблюдение, и др. държавни служители свързани с изпълнението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Външна целева груп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отенциални бенефициенти и бенефициенти, социално-икономическите партньори, широката публ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Целева група на посредницит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Медии, НПО, представители на отдели за връзки с обществеността в държавни, областни и общински ведом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3600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F805-1ECC-413E-96E3-2D6DA76912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1680" y="2349360"/>
            <a:ext cx="47750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муникационни методи и кана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Пресконфере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Съобщения (електронни и др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Участия в радио и телевизионни информационни преда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Редовни обучителни семинари за журнали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Медиен мониторин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Брошур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Нас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Копия на основни докумен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лектронна пощ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oprd@mrrb.government.b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Интернет страниц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www.bgregio.e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cc00"/>
                </a:solidFill>
                <a:latin typeface="Arial"/>
              </a:rPr>
              <a:t>Интернет фору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356000" y="2421000"/>
            <a:ext cx="43196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2E2-3B90-4253-9016-8310221CD8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2349360"/>
            <a:ext cx="42703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Комуникационни методи и кана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Визуална идентичност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Външни мероприят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изискване за поне 2 пресконференции при всеки проект- при откриването и з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завършването м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ткриваща конферен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Годишна конференция за отчитане постигнатото по програм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Телевизионни клипов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ослание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Инвестираме въ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ашето бъде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en_oprd_02" descr=""/>
          <p:cNvPicPr/>
          <p:nvPr/>
        </p:nvPicPr>
        <p:blipFill>
          <a:blip r:embed="rId4"/>
          <a:stretch/>
        </p:blipFill>
        <p:spPr>
          <a:xfrm>
            <a:off x="4932360" y="2492280"/>
            <a:ext cx="1486080" cy="195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148360" y="4869000"/>
            <a:ext cx="1185840" cy="1458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804000" y="2997360"/>
            <a:ext cx="1984320" cy="28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165-9A53-465E-8902-50B9044A40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" y="2349360"/>
            <a:ext cx="427032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276640"/>
            <a:ext cx="561636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В изпълнение на Плана в момента в У</a:t>
            </a:r>
            <a:r>
              <a:rPr b="1" lang="bg-BG" sz="1600" spc="-1" strike="noStrike">
                <a:solidFill>
                  <a:srgbClr val="ffcc00"/>
                </a:solidFill>
                <a:latin typeface="Arial"/>
              </a:rPr>
              <a:t>правляващия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рган се разработва проектно предложение за финансиране от Техническата помощ на ОПРР за срок от 2 години. В него са заложени за финансиран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идеоклипо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Билбор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Медия монитор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еминари за журнали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Социологически проуч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убликуване на материали в печатни медии и платени съобщения в електронни ме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ечатни материали – брошури, формуляри, указ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300720" y="3213000"/>
            <a:ext cx="2592360" cy="186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9FD8-EB8A-4D27-8ECD-58D02C9E95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1680" y="2349360"/>
            <a:ext cx="491796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Мониторинг и оцен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400" spc="-1" strike="noStrike">
                <a:solidFill>
                  <a:srgbClr val="ffcc00"/>
                </a:solidFill>
                <a:latin typeface="Arial"/>
              </a:rPr>
              <a:t>Индикатори за оцен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Степен на информираност на общество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Посещения на сайта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Брой жители видели и запомнили клиповете и билбордовете на ОПР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Излъчвания  и публикации в медиит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Дял на участниците в семинари (журналисти) увеличили своите по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Отговорни за изпълнението структу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5508720" y="2492280"/>
            <a:ext cx="2214360" cy="3210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164360" y="4365720"/>
            <a:ext cx="1631880" cy="186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7F1-9B3D-407D-8ACC-D80F653980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1680" y="2349360"/>
            <a:ext cx="499104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Насоки към Комуникациония план на ОПР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организация на събит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Списък на поканените, информационни пакети, място, участници и т.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взаимоотношения с медии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Факти, доверие и сътрудничество, списък на контактите и д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Насоки за бенефициентит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Лого на ЕС, билбордове, обяснителни таб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995640" y="333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435640" y="2708280"/>
            <a:ext cx="3384360" cy="26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C72-F8BD-42FD-A3C4-7928EB9E2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3:24:11Z</dcterms:created>
  <dc:creator>IvanovaV</dc:creator>
  <dc:description/>
  <dc:language>en-US</dc:language>
  <cp:lastModifiedBy>HristovI</cp:lastModifiedBy>
  <dcterms:modified xsi:type="dcterms:W3CDTF">2008-07-04T08:19:40Z</dcterms:modified>
  <cp:revision>89</cp:revision>
  <dc:subject/>
  <dc:title>Presentation 2</dc:title>
</cp:coreProperties>
</file>