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30E5-A78D-4AF9-A464-B6DFA4B6A1B8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2286000" y="6531120"/>
            <a:ext cx="595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819178"/>
                </a:solidFill>
                <a:latin typeface="Arial"/>
              </a:rPr>
              <a:t>София - Национален информационен ден</a:t>
            </a:r>
            <a:r>
              <a:rPr b="0" lang="fr-FR" sz="1400" spc="-1" strike="noStrike">
                <a:solidFill>
                  <a:srgbClr val="819178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819178"/>
                </a:solidFill>
                <a:latin typeface="Arial"/>
              </a:rPr>
              <a:t>18 Ноември</a:t>
            </a:r>
            <a:r>
              <a:rPr b="0" lang="fr-FR" sz="1400" spc="-1" strike="noStrike">
                <a:solidFill>
                  <a:srgbClr val="819178"/>
                </a:solidFill>
                <a:latin typeface="Arial"/>
              </a:rPr>
              <a:t> 2008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6" name="Picture 27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8200" y="6400800"/>
            <a:ext cx="582480" cy="3888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interreg4c.net/load/Country_Specific_Control_Requirements.pdf" TargetMode="External"/><Relationship Id="rId3" Type="http://schemas.openxmlformats.org/officeDocument/2006/relationships/hyperlink" Target="http://www.interreg4c.net/load/Country_Specific_Control_Requirements.pdf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rreg4c.net/application.html" TargetMode="External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gregio.eu/" TargetMode="External"/><Relationship Id="rId2" Type="http://schemas.openxmlformats.org/officeDocument/2006/relationships/hyperlink" Target="http://www.mrrb.government.bg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terreg4c.net/projects.html" TargetMode="External"/><Relationship Id="rId2" Type="http://schemas.openxmlformats.org/officeDocument/2006/relationships/hyperlink" Target="http://www.interreg4c.net/projects.html" TargetMode="External"/><Relationship Id="rId3" Type="http://schemas.openxmlformats.org/officeDocument/2006/relationships/hyperlink" Target="http://www.interreg4c.net/projects.html" TargetMode="External"/><Relationship Id="rId4" Type="http://schemas.openxmlformats.org/officeDocument/2006/relationships/hyperlink" Target="http://www.interreg4c.net/projects.html" TargetMode="External"/><Relationship Id="rId5" Type="http://schemas.openxmlformats.org/officeDocument/2006/relationships/hyperlink" Target="http://www.interreg4c.net/projects.html" TargetMode="External"/><Relationship Id="rId6" Type="http://schemas.openxmlformats.org/officeDocument/2006/relationships/hyperlink" Target="http://www.interreg4c.net/projects.html" TargetMode="External"/><Relationship Id="rId7" Type="http://schemas.openxmlformats.org/officeDocument/2006/relationships/hyperlink" Target="http://www.interreg4c.net/projects.html" TargetMode="External"/><Relationship Id="rId8" Type="http://schemas.openxmlformats.org/officeDocument/2006/relationships/hyperlink" Target="http://www.interreg4c.net/projects.html" TargetMode="External"/><Relationship Id="rId9" Type="http://schemas.openxmlformats.org/officeDocument/2006/relationships/hyperlink" Target="http://www.interreg4c.net/projects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reg4c.eu/" TargetMode="External"/><Relationship Id="rId2" Type="http://schemas.openxmlformats.org/officeDocument/2006/relationships/hyperlink" Target="http://www.interreg4c.eu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terreg4c.eu/Programme" TargetMode="External"/><Relationship Id="rId2" Type="http://schemas.openxmlformats.org/officeDocument/2006/relationships/hyperlink" Target="http://www.interreg4c.eu/Programme" TargetMode="External"/><Relationship Id="rId3" Type="http://schemas.openxmlformats.org/officeDocument/2006/relationships/hyperlink" Target="http://www.interreg4c.eu/Programme" TargetMode="External"/><Relationship Id="rId4" Type="http://schemas.openxmlformats.org/officeDocument/2006/relationships/hyperlink" Target="http://www.bgregio.eu/Content.aspx?menu=right&amp;pid=56" TargetMode="External"/><Relationship Id="rId5" Type="http://schemas.openxmlformats.org/officeDocument/2006/relationships/hyperlink" Target="http://www.bgregio.eu/Content.aspx?menu=right&amp;pid=56" TargetMode="External"/><Relationship Id="rId6" Type="http://schemas.openxmlformats.org/officeDocument/2006/relationships/hyperlink" Target="http://www.bgregio.eu/Content.aspx?menu=right&amp;pid=56" TargetMode="External"/><Relationship Id="rId7" Type="http://schemas.openxmlformats.org/officeDocument/2006/relationships/hyperlink" Target="http://www.bgregio.eu/Content.aspx?menu=right&amp;pid=56" TargetMode="External"/><Relationship Id="rId8" Type="http://schemas.openxmlformats.org/officeDocument/2006/relationships/hyperlink" Target="http://www.bgregio.eu/Content.aspx?menu=right&amp;pid=56" TargetMode="External"/><Relationship Id="rId9" Type="http://schemas.openxmlformats.org/officeDocument/2006/relationships/hyperlink" Target="http://www.bgregio.eu/Content.aspx?menu=right&amp;pid=56" TargetMode="External"/><Relationship Id="rId10" Type="http://schemas.openxmlformats.org/officeDocument/2006/relationships/hyperlink" Target="http://www.bgregio.eu/Content.aspx?menu=right&amp;pid=56" TargetMode="External"/><Relationship Id="rId11" Type="http://schemas.openxmlformats.org/officeDocument/2006/relationships/hyperlink" Target="http://www.bgregio.eu/Content.aspx?menu=right&amp;pid=56" TargetMode="External"/><Relationship Id="rId12" Type="http://schemas.openxmlformats.org/officeDocument/2006/relationships/hyperlink" Target="http://www.bgregio.eu/Content.aspx?menu=right&amp;pid=56" TargetMode="External"/><Relationship Id="rId13" Type="http://schemas.openxmlformats.org/officeDocument/2006/relationships/hyperlink" Target="http://www.bgregio.eu/Content.aspx?menu=right&amp;pid=56" TargetMode="External"/><Relationship Id="rId14" Type="http://schemas.openxmlformats.org/officeDocument/2006/relationships/hyperlink" Target="http://www.bgregio.eu/Content.aspx?menu=right&amp;pid=56" TargetMode="External"/><Relationship Id="rId15" Type="http://schemas.openxmlformats.org/officeDocument/2006/relationships/hyperlink" Target="http://www.bgregio.eu/Content.aspx?menu=right&amp;pid=56" TargetMode="External"/><Relationship Id="rId16" Type="http://schemas.openxmlformats.org/officeDocument/2006/relationships/hyperlink" Target="http://www.bgregio.eu/Content.aspx?menu=right&amp;pid=56" TargetMode="External"/><Relationship Id="rId17" Type="http://schemas.openxmlformats.org/officeDocument/2006/relationships/hyperlink" Target="http://www.bgregio.eu/Content.aspx?menu=right&amp;pid=56" TargetMode="External"/><Relationship Id="rId18" Type="http://schemas.openxmlformats.org/officeDocument/2006/relationships/hyperlink" Target="http://www.bgregio.eu/Content.aspx?menu=right&amp;pid=56" TargetMode="External"/><Relationship Id="rId19" Type="http://schemas.openxmlformats.org/officeDocument/2006/relationships/hyperlink" Target="http://www.bgregio.eu/Content.aspx?menu=right&amp;pid=56" TargetMode="External"/><Relationship Id="rId2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gregio.eu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25000" y="112536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Информационен ден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2720" y="2133720"/>
            <a:ext cx="792000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16e"/>
                </a:solidFill>
                <a:latin typeface="Arial"/>
              </a:rPr>
              <a:t>Оперативна програма за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16e"/>
                </a:solidFill>
                <a:latin typeface="Arial"/>
              </a:rPr>
              <a:t>междурегионално сътрудничество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16e"/>
                </a:solidFill>
                <a:latin typeface="Arial"/>
              </a:rPr>
              <a:t>Интеррег ІVС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16e"/>
                </a:solidFill>
                <a:latin typeface="Arial"/>
              </a:rPr>
              <a:t>Втора покана за проектни предложения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16e"/>
                </a:solidFill>
                <a:latin typeface="Arial"/>
              </a:rPr>
              <a:t>София, 18 ноември 2008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зходи за първо ниво на контро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446200"/>
            <a:ext cx="813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Допустим разход за всеки български партньор по проект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Разходите за контрол се включват в бюджетно перо “Външна експертиза и услуги”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Разходи за контрол:  до 600 евро на година плюс разходи за командировки съгласно българското законодателство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39640" y="836640"/>
            <a:ext cx="8229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Раздел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 5 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от формуляра за кандидатстване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6012000" cy="5273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0" y="3716280"/>
            <a:ext cx="5867280" cy="1873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012000" y="1886040"/>
            <a:ext cx="3132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Първо ниво на контрол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редставя се информация съгласно описанието, дадено в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316e"/>
                </a:solidFill>
                <a:uFillTx/>
                <a:latin typeface="Arial"/>
                <a:hlinkClick r:id="rId2"/>
              </a:rPr>
              <a:t>http://www.interreg4c.net/ load/</a:t>
            </a:r>
            <a:r>
              <a:rPr b="0" lang="en-GB" sz="1600" spc="-1" strike="noStrike" u="sng">
                <a:solidFill>
                  <a:srgbClr val="00316e"/>
                </a:solidFill>
                <a:uFillTx/>
                <a:latin typeface="Arial"/>
                <a:hlinkClick r:id="rId3"/>
              </a:rPr>
              <a:t>Country_Specific_Control_Requirements.pdf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4067280" y="3716280"/>
            <a:ext cx="936360" cy="2174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рмуляр за кандидатстване – информация за първо ниво на контрол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8"/>
          <p:cNvSpPr/>
          <p:nvPr/>
        </p:nvSpPr>
        <p:spPr>
          <a:xfrm>
            <a:off x="7451640" y="4797360"/>
            <a:ext cx="169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16e"/>
                </a:solidFill>
                <a:latin typeface="Arial"/>
              </a:rPr>
              <a:t>1. </a:t>
            </a: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Разходите на ПП се верифицират от контрольора на партньора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7236000" y="2492280"/>
            <a:ext cx="1908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16e"/>
                </a:solidFill>
                <a:latin typeface="Arial"/>
              </a:rPr>
              <a:t>2. </a:t>
            </a: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ВП изготвя общ доклад.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Разходите се верифицират от контрольора на ВП.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ВП събира декларациите за разходи от партньорите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7262640" y="1773360"/>
            <a:ext cx="18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16e"/>
                </a:solidFill>
                <a:latin typeface="Arial"/>
              </a:rPr>
              <a:t>3. </a:t>
            </a: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Докладите се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проверяват от СТС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7236000" y="1039680"/>
            <a:ext cx="16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16e"/>
                </a:solidFill>
                <a:latin typeface="Arial"/>
              </a:rPr>
              <a:t>4. </a:t>
            </a: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СО проверява и плаща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Докладване и система за контро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3"/>
          <p:cNvSpPr/>
          <p:nvPr/>
        </p:nvSpPr>
        <p:spPr>
          <a:xfrm>
            <a:off x="6588000" y="234936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5724360" y="2349360"/>
            <a:ext cx="10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316e"/>
                </a:solidFill>
                <a:latin typeface="Arial"/>
              </a:rPr>
              <a:t>Плащане към Водещия партньор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9200" y="6021360"/>
            <a:ext cx="70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http://www.interreg4c.net/application.html</a:t>
            </a: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 - Progamme manual, раздел 4.3.4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116000" y="1197000"/>
            <a:ext cx="6248520" cy="4660920"/>
            <a:chOff x="1116000" y="1197000"/>
            <a:chExt cx="6248520" cy="4660920"/>
          </a:xfrm>
        </p:grpSpPr>
        <p:sp>
          <p:nvSpPr>
            <p:cNvPr id="80" name="Text Box 2"/>
            <p:cNvSpPr/>
            <p:nvPr/>
          </p:nvSpPr>
          <p:spPr>
            <a:xfrm>
              <a:off x="3249720" y="5489640"/>
              <a:ext cx="1904760" cy="368280"/>
            </a:xfrm>
            <a:prstGeom prst="rect">
              <a:avLst/>
            </a:prstGeom>
            <a:noFill/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316e"/>
                  </a:solidFill>
                  <a:latin typeface="Arial"/>
                </a:rPr>
                <a:t>Партньор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pic>
          <p:nvPicPr>
            <p:cNvPr id="81" name="Picture 3" descr="BD04882_"/>
            <p:cNvPicPr/>
            <p:nvPr/>
          </p:nvPicPr>
          <p:blipFill>
            <a:blip r:embed="rId2"/>
            <a:stretch/>
          </p:blipFill>
          <p:spPr>
            <a:xfrm>
              <a:off x="3059280" y="1730520"/>
              <a:ext cx="7459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4"/>
            <p:cNvSpPr/>
            <p:nvPr/>
          </p:nvSpPr>
          <p:spPr>
            <a:xfrm>
              <a:off x="3059280" y="3921120"/>
              <a:ext cx="2400120" cy="368280"/>
            </a:xfrm>
            <a:prstGeom prst="rect">
              <a:avLst/>
            </a:prstGeom>
            <a:noFill/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316e"/>
                  </a:solidFill>
                  <a:latin typeface="Arial"/>
                </a:rPr>
                <a:t>Водещ партньор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83" name="Text Box 5"/>
            <p:cNvSpPr/>
            <p:nvPr/>
          </p:nvSpPr>
          <p:spPr>
            <a:xfrm>
              <a:off x="3059280" y="2416320"/>
              <a:ext cx="2400120" cy="368280"/>
            </a:xfrm>
            <a:prstGeom prst="rect">
              <a:avLst/>
            </a:prstGeom>
            <a:noFill/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316e"/>
                  </a:solidFill>
                  <a:latin typeface="Arial"/>
                </a:rPr>
                <a:t>СТС / УО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pic>
          <p:nvPicPr>
            <p:cNvPr id="84" name="Picture 6" descr="BS01060_"/>
            <p:cNvPicPr/>
            <p:nvPr/>
          </p:nvPicPr>
          <p:blipFill>
            <a:blip r:embed="rId3"/>
            <a:stretch/>
          </p:blipFill>
          <p:spPr>
            <a:xfrm>
              <a:off x="3249720" y="4813200"/>
              <a:ext cx="74592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3059280" y="1197000"/>
              <a:ext cx="2592360" cy="368280"/>
            </a:xfrm>
            <a:prstGeom prst="rect">
              <a:avLst/>
            </a:prstGeom>
            <a:noFill/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316e"/>
                  </a:solidFill>
                  <a:latin typeface="Arial"/>
                </a:rPr>
                <a:t>Сертифициращ орган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86" name="AutoShape 8"/>
            <p:cNvSpPr/>
            <p:nvPr/>
          </p:nvSpPr>
          <p:spPr>
            <a:xfrm rot="16200000">
              <a:off x="3831120" y="4923000"/>
              <a:ext cx="760680" cy="362160"/>
            </a:xfrm>
            <a:prstGeom prst="rightArrow">
              <a:avLst>
                <a:gd name="adj1" fmla="val 50000"/>
                <a:gd name="adj2" fmla="val 52510"/>
              </a:avLst>
            </a:prstGeom>
            <a:solidFill>
              <a:srgbClr val="00316e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pic>
          <p:nvPicPr>
            <p:cNvPr id="87" name="Picture 9" descr="BS01094_"/>
            <p:cNvPicPr/>
            <p:nvPr/>
          </p:nvPicPr>
          <p:blipFill>
            <a:blip r:embed="rId4"/>
            <a:stretch/>
          </p:blipFill>
          <p:spPr>
            <a:xfrm>
              <a:off x="3076560" y="3102120"/>
              <a:ext cx="727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10"/>
            <p:cNvSpPr/>
            <p:nvPr/>
          </p:nvSpPr>
          <p:spPr>
            <a:xfrm rot="16200000">
              <a:off x="3833640" y="3374280"/>
              <a:ext cx="755640" cy="362160"/>
            </a:xfrm>
            <a:prstGeom prst="rightArrow">
              <a:avLst>
                <a:gd name="adj1" fmla="val 50000"/>
                <a:gd name="adj2" fmla="val 52162"/>
              </a:avLst>
            </a:prstGeom>
            <a:solidFill>
              <a:srgbClr val="00316e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89" name="AutoShape 11"/>
            <p:cNvSpPr/>
            <p:nvPr/>
          </p:nvSpPr>
          <p:spPr>
            <a:xfrm rot="16200000">
              <a:off x="3868560" y="1891800"/>
              <a:ext cx="685800" cy="362160"/>
            </a:xfrm>
            <a:prstGeom prst="rightArrow">
              <a:avLst>
                <a:gd name="adj1" fmla="val 50000"/>
                <a:gd name="adj2" fmla="val 47341"/>
              </a:avLst>
            </a:prstGeom>
            <a:solidFill>
              <a:srgbClr val="00316e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5459400" y="5486400"/>
              <a:ext cx="1905120" cy="368280"/>
            </a:xfrm>
            <a:prstGeom prst="rect">
              <a:avLst/>
            </a:prstGeom>
            <a:noFill/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316e"/>
                  </a:solidFill>
                  <a:latin typeface="Arial"/>
                </a:rPr>
                <a:t>Партньор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pic>
          <p:nvPicPr>
            <p:cNvPr id="91" name="Picture 13" descr="BS01060_"/>
            <p:cNvPicPr/>
            <p:nvPr/>
          </p:nvPicPr>
          <p:blipFill>
            <a:blip r:embed="rId5"/>
            <a:stretch/>
          </p:blipFill>
          <p:spPr>
            <a:xfrm>
              <a:off x="6602400" y="4813200"/>
              <a:ext cx="74628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14"/>
            <p:cNvSpPr/>
            <p:nvPr/>
          </p:nvSpPr>
          <p:spPr>
            <a:xfrm rot="13614000">
              <a:off x="5597280" y="4870440"/>
              <a:ext cx="990720" cy="361800"/>
            </a:xfrm>
            <a:prstGeom prst="rightArrow">
              <a:avLst>
                <a:gd name="adj1" fmla="val 50000"/>
                <a:gd name="adj2" fmla="val 68458"/>
              </a:avLst>
            </a:prstGeom>
            <a:solidFill>
              <a:srgbClr val="00316e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116000" y="5486400"/>
              <a:ext cx="1905120" cy="368280"/>
            </a:xfrm>
            <a:prstGeom prst="rect">
              <a:avLst/>
            </a:prstGeom>
            <a:noFill/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316e"/>
                  </a:solidFill>
                  <a:latin typeface="Arial"/>
                </a:rPr>
                <a:t>Партньор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pic>
          <p:nvPicPr>
            <p:cNvPr id="94" name="Picture 16" descr="BS01060_"/>
            <p:cNvPicPr/>
            <p:nvPr/>
          </p:nvPicPr>
          <p:blipFill>
            <a:blip r:embed="rId6"/>
            <a:stretch/>
          </p:blipFill>
          <p:spPr>
            <a:xfrm>
              <a:off x="1116000" y="4809960"/>
              <a:ext cx="74628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17"/>
            <p:cNvSpPr/>
            <p:nvPr/>
          </p:nvSpPr>
          <p:spPr>
            <a:xfrm rot="19141800">
              <a:off x="1887480" y="4852800"/>
              <a:ext cx="1066680" cy="361800"/>
            </a:xfrm>
            <a:prstGeom prst="rightArrow">
              <a:avLst>
                <a:gd name="adj1" fmla="val 50000"/>
                <a:gd name="adj2" fmla="val 73706"/>
              </a:avLst>
            </a:prstGeom>
            <a:solidFill>
              <a:srgbClr val="00316e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96" name="Line 28"/>
            <p:cNvSpPr/>
            <p:nvPr/>
          </p:nvSpPr>
          <p:spPr>
            <a:xfrm flipH="1">
              <a:off x="2484360" y="4365720"/>
              <a:ext cx="1008000" cy="1008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97" name="Line 29"/>
            <p:cNvSpPr/>
            <p:nvPr/>
          </p:nvSpPr>
          <p:spPr>
            <a:xfrm>
              <a:off x="4572000" y="4365720"/>
              <a:ext cx="0" cy="1150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98" name="Line 30"/>
            <p:cNvSpPr/>
            <p:nvPr/>
          </p:nvSpPr>
          <p:spPr>
            <a:xfrm>
              <a:off x="5003640" y="4365720"/>
              <a:ext cx="863640" cy="1008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99" name="AutoShape 35"/>
            <p:cNvSpPr/>
            <p:nvPr/>
          </p:nvSpPr>
          <p:spPr>
            <a:xfrm>
              <a:off x="5724360" y="1413000"/>
              <a:ext cx="1295640" cy="3168360"/>
            </a:xfrm>
            <a:custGeom>
              <a:avLst/>
              <a:gdLst>
                <a:gd name="textAreaLeft" fmla="*/ 173520 w 1295640"/>
                <a:gd name="textAreaRight" fmla="*/ 1122120 w 1295640"/>
                <a:gd name="textAreaTop" fmla="*/ 554400 h 3168360"/>
                <a:gd name="textAreaBottom" fmla="*/ 229716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100" name="Rectangle 38"/>
            <p:cNvSpPr/>
            <p:nvPr/>
          </p:nvSpPr>
          <p:spPr>
            <a:xfrm rot="3063600">
              <a:off x="4488480" y="4757040"/>
              <a:ext cx="145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316e"/>
                  </a:solidFill>
                  <a:latin typeface="Arial"/>
                </a:rPr>
                <a:t>Плащане към партньора</a:t>
              </a:r>
              <a:endParaRPr b="0" lang="en-US" sz="1400" spc="-1" strike="noStrike">
                <a:solidFill>
                  <a:srgbClr val="0031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рокове за докладване и контро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413000"/>
          <a:ext cx="8218440" cy="1960560"/>
        </p:xfrm>
        <a:graphic>
          <a:graphicData uri="http://schemas.openxmlformats.org/drawingml/2006/table">
            <a:tbl>
              <a:tblPr/>
              <a:tblGrid>
                <a:gridCol w="3672000"/>
                <a:gridCol w="45464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Период за докладване:</a:t>
                      </a: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1368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Срок за докладване:</a:t>
                      </a: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1368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януари – юни</a:t>
                      </a: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юли – декември</a:t>
                      </a: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1368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1 октомври</a:t>
                      </a: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1 април</a:t>
                      </a: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13680">
                      <a:solidFill>
                        <a:srgbClr val="0031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468360" y="3429000"/>
            <a:ext cx="81565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Докладът включва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:</a:t>
            </a:r>
            <a:br>
              <a:rPr sz="1600"/>
            </a:b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информация за изпълнението на дейностите</a:t>
            </a:r>
            <a:br>
              <a:rPr sz="1600"/>
            </a:b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информация за извършените разходи</a:t>
            </a:r>
            <a:br>
              <a:rPr sz="1600"/>
            </a:b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твърждение за извършените разходи от контрольора на водещия партньор.</a:t>
            </a:r>
            <a:br>
              <a:rPr sz="1600"/>
            </a:br>
            <a:br>
              <a:rPr sz="1600"/>
            </a:b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Стандартни документи за контрол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: </a:t>
            </a:r>
            <a:br>
              <a:rPr sz="1600"/>
            </a:b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Анекс 5а, Анекс 5в, Анекс 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5c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към Наръчника по програмата</a:t>
            </a:r>
            <a:br>
              <a:rPr sz="1600"/>
            </a:b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-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представляват неразделна част от доклад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еглед на първата покана за проектни предложения - 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887480"/>
            <a:ext cx="8351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Срок за подаване на предложенията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: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15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.01.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Брой получени предложения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: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492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316e"/>
                </a:solidFill>
                <a:latin typeface="Arial"/>
              </a:rPr>
              <a:t>(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в които са участвали 150 български партньори</a:t>
            </a:r>
            <a:r>
              <a:rPr b="1" lang="en-US" sz="1600" spc="-1" strike="noStrike">
                <a:solidFill>
                  <a:srgbClr val="00316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едопуснати до оценка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94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допуснати до оценка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398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Решение на Комитета за наблюдение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за проекти за капитализация 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(12) 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24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.04.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за проекти за регионална инициатива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(386) 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19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.09.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български партньори в одобрени проекти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Първи срок за докладване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: 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0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1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.04.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еглед на първата покана за проектни предложения - 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549440"/>
            <a:ext cx="7921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20% от получените в първата покана проектни предложения не са били допуснати до оценка на качеството поради: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липсващи или неясни декларации за съфинансиране 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56%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еправилно попълнен формуляр за кандидатстване (31%)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епълен формуляр за кандидатстване или различие между електронната версия и хартиеното копие на проектното предложение (9%)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даване на проектното предложение след крайния срок (4%)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а покана за проектни предложени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440000"/>
            <a:ext cx="7848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ачало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27.10.2008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Краен срок за подаване на предложения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30.01.2009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чаквано решение на КН за одобрение на проектите:      10.2009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чаквано начало на дейностите по проекти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–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т решението на КН за одобрение на проектите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: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до 12.2009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Ново!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Една и съща организация не може да участва в повече от 5 проектни предложения по една и съща покана за проект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2776"/>
                </a:solidFill>
                <a:latin typeface="Comic Sans MS"/>
              </a:rPr>
              <a:t>ДОПУСТИМИ РАЗХОДИ</a:t>
            </a:r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Допустимите разходи по проектите не трябва да противоречат на правилата, описани в: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Регламент (ЕО) №1080/2006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г. на Европейския парламент и на Съвета относно Европейския фонд за регионално развитие и за отмяна на Регламент (ЕО) №1783/1999 г;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16e"/>
              </a:solidFill>
              <a:latin typeface="Arial"/>
            </a:endParaRPr>
          </a:p>
          <a:p>
            <a:pPr marL="30852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Регламент (ЕО) №1083/2006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г. на Съвета относно определянето на общи разпоредби за Европейския регионален фонд, Европейския социален фонд и Кохезионния фонд и за отмяна на Регламент (EO) № 1260/1999 г.;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Наръчник по програма </a:t>
            </a:r>
            <a:r>
              <a:rPr b="0" i="1" lang="en-US" sz="1600" spc="-1" strike="noStrike">
                <a:solidFill>
                  <a:srgbClr val="00316e"/>
                </a:solidFill>
                <a:latin typeface="Arial"/>
              </a:rPr>
              <a:t>INTERREG IVC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Национални правила и указания: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Постановление № 62 на МС от 21.03.2007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г. за приемане на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ационални правила за допустимост на разходите по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перативни програми (ОП), съфинансирани по СКФ на ЕС за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финансовата рамка 2007-2013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16e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ЗОП, ПМС 55/2007, други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пустими разход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пустими разход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На основание § 6 от Предходните и заключителни разпоредби</a:t>
            </a:r>
            <a:r>
              <a:rPr b="0" lang="en-US" sz="1600" spc="-1" strike="noStrike">
                <a:solidFill>
                  <a:srgbClr val="00277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на Постановление № 62 на МС от 21.03.2007 г. с </a:t>
            </a: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№ 91-00-502 от</a:t>
            </a:r>
            <a:r>
              <a:rPr b="1" i="1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27.08.2007</a:t>
            </a: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 г. министърът на финансите издаде указания</a:t>
            </a:r>
            <a:r>
              <a:rPr b="0" lang="en-US" sz="1600" spc="-1" strike="noStrike">
                <a:solidFill>
                  <a:srgbClr val="00277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относно третиране на </a:t>
            </a: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данък добавена стойност</a:t>
            </a: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 като допустим</a:t>
            </a:r>
            <a:r>
              <a:rPr b="0" lang="en-US" sz="1600" spc="-1" strike="noStrike">
                <a:solidFill>
                  <a:srgbClr val="00277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разход при изпълнение на проекти по Оперативни програми,</a:t>
            </a:r>
            <a:r>
              <a:rPr b="0" lang="en-US" sz="1600" spc="-1" strike="noStrike">
                <a:solidFill>
                  <a:srgbClr val="00277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съфинансирани от СКФ на ЕС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ДДС се третира като допустим разход по проектите на </a:t>
            </a:r>
            <a:r>
              <a:rPr b="1" i="1" lang="en-US" sz="1600" spc="-1" strike="noStrike">
                <a:solidFill>
                  <a:srgbClr val="002776"/>
                </a:solidFill>
                <a:latin typeface="Arial"/>
              </a:rPr>
              <a:t>INTERREG IVC</a:t>
            </a: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 когато: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• </a:t>
            </a: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Бенефициентът не е регистриран по ЗДДС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• </a:t>
            </a: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Бенефициентът е регистрирано лице по чл.99 и чл.100 ал.2 от ЗДДС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• </a:t>
            </a: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Бенефициентът е регистрирано лице на основание различно от чл.99 и чл.100 ал.2 от ЗДДС и стоките и услугите, финансирани по ОП ЮИЕ са предназначени за извършване на освободени доставки, безвъзмездни доставки или дейности, различни от икономическата дейност на лицето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Разходи за оборудване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До 5% от бюджета на проекта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Амортизационни разходи - допустими са съгласно чл. 53. от Правилника за приложение на регламент 1083/2006: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Разходите за амортизация на амортизируеми активи, които пряко се използват в проекта и са начислени по време на периода, през който проектът е финансиран, ще бъдат допустими при условие, че придобиването на тези активи не е било декларирано като допустим разход.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пустими разход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ционално звено за контак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197000"/>
            <a:ext cx="8208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Функци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пуляризиране на програмата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в страната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рганизиране на информационни събития в координация с информационните точки и СТС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ддържане на база данни с 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контакти на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тенциални партньори по програмат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издаване на информационни материали на националния език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редоставяне на специфична информация: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тносно избираемия статут на проектните партньор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истемата за първо ниво на контрол в съответната държав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За България Национално звено за контакт е Главна дирекция “Програмиране на регионалното развитие” в Министерство на регионалното развитие и благоустройството, определена с РМС 523 от 31.07.2007 годин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спех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2600" y="1844640"/>
            <a:ext cx="6521400" cy="26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Национално звено за контакт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ГД “Програмиране на регионалното развитие”, МРРБ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Ася Христова – </a:t>
            </a:r>
            <a:r>
              <a:rPr b="1" lang="en-US" sz="1600" spc="-1" strike="noStrike">
                <a:solidFill>
                  <a:srgbClr val="00316e"/>
                </a:solidFill>
                <a:latin typeface="Arial"/>
              </a:rPr>
              <a:t>ahristova@mrrb.government.bg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Ирина Рангелова – </a:t>
            </a:r>
            <a:r>
              <a:rPr b="1" lang="en-US" sz="1600" spc="-1" strike="noStrike">
                <a:solidFill>
                  <a:srgbClr val="00316e"/>
                </a:solidFill>
                <a:latin typeface="Arial"/>
              </a:rPr>
              <a:t>irangelova@mrrb.government.bg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Стефан Чешмеджиев – </a:t>
            </a:r>
            <a:r>
              <a:rPr b="1" lang="en-US" sz="1600" spc="-1" strike="noStrike">
                <a:solidFill>
                  <a:srgbClr val="00316e"/>
                </a:solidFill>
                <a:latin typeface="Arial"/>
              </a:rPr>
              <a:t>satanasov@mrrb.government.bg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www.bgregio.eu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2"/>
              </a:rPr>
              <a:t>www.mrrb.government.bg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пустими бенефициент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833400"/>
            <a:ext cx="842472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316e"/>
                </a:solidFill>
                <a:latin typeface="Arial"/>
              </a:rPr>
              <a:t>Органи на властта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316e"/>
                </a:solidFill>
                <a:latin typeface="Arial"/>
              </a:rPr>
              <a:t>Публичноправни организации</a:t>
            </a:r>
            <a:r>
              <a:rPr b="0" i="1" lang="bg-BG" sz="1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Документи за справка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Раздел 5.1. от оперативна програма Интеррег ІVС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“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Бенефициенти са публични власти и организации, чиито разходи се разглеждат като публични разходи в съответствие с член 2, алинея (5) от Регламент (ЕО) 1083/2006. Това особено се отнася за организациите, действащи в съответствие с директива 2004/18/EC.”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Закон за обществените поръчки</a:t>
            </a: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 – определение на публичноправна организация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§1, т. 21 от Допълнителните разпоредб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Директива 2004/18/ЕО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относно координирането на процедурите за възлагане н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бществени поръчки за строителство, услуги и доставки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и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Анекс ІІІ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– Списък на организациите и категориите организации, учреден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ъгласно публичното право, съгласно втора алинея от член 1, параграф 9 от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Директивата.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Декларация за съфинансиране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97000"/>
            <a:ext cx="8207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редставя се от всеки партньор, включително от водещия партньор в оригинал с подпис и печат заедно с формуляра за кандидатстване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дава се с името на партньора, както е записан във формуляра за кандидатстване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сочва се точната сума на собственото съфинансиране на партньора в проекта, идентична с посочената във формуляра за кандидатстване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ромени в текста на декларацията са недопустим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артньорите от България осигуряват 15 % съфинансиране като собствен принос от публични средств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бразец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а декларацията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http://www.interreg4c.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eu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/application.html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-36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Споразумение за партньорство</a:t>
            </a: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836640"/>
            <a:ext cx="85690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Водещият партньор и партньорите подписват споразумение за партньорство (СП). Препоръчва се СП да бъде подготвено възможно най-рано и принципите да бъдат съгласувани преди предаването на предложението за проекта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Съдържание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роля и задължения на отделните партньори за изпълнението на проекта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бюджетни принципи - бюджет на партньорите по бюджетни пера и компоненти, прогноза за плащанията за шестмесечни периоди, условия за разпределянето на  разходите за външна експертиза и услуги между партньорите, преразпределение на бюджет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условия за финансово управление - счетоводство, отчитане, финансов контрол, получаване на плащания от ЕФРР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тговорности в случай на неизпълнение на проекта, условия  за промяна на работния план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финансова отговорност на партньорите и условия  за възстановяване на средства в случай на неправилно отчетени и получени от партньорите средства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изисквания за информация и публичност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разрешаване на конфликти между партньорите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работен език на партньорството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бразец на споразумение за партньорство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http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2"/>
              </a:rPr>
              <a:t>://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3"/>
              </a:rPr>
              <a:t>www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4"/>
              </a:rPr>
              <a:t>.interreg4c.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5"/>
              </a:rPr>
              <a:t>net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6"/>
              </a:rPr>
              <a:t>/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7"/>
              </a:rPr>
              <a:t>projects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8"/>
              </a:rPr>
              <a:t>.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9"/>
              </a:rPr>
              <a:t>html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Partnership Agreement model.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Чл. 16 от Регламент 1080/2006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истема за контро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541520"/>
            <a:ext cx="828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1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 цел да се утвърдят разходите, всяка държава-членка създава система за контрол, която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дава възможност за проверка на доставката на продукти и услуги, обект на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ъфинансирането, валидността на декларираните разходи за операции или части от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перации, осъществявани на тяхна територия и съвместимостта на тези разходи и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перациите или частите от операции, за които се отнасят, с правилата на Общността и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ационалните правила.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   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За тази цел всяка държава-членка определя контрольори, натоварени с проверката на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законността и редовността на декларираните разходи от всеки бенефициент, участващ в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перацията. Държавите-членки могат да решат да посочат единен контролиращ за цялата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територия, обхваната от програмата.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2. Всяка държава-членка следи разходите да бъдат утвърждавани от контрольорите в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рамките на три месеца.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лезна информаци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268280"/>
            <a:ext cx="82072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Финансово управление на програмата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www.interreg4c.eu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News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резентации от форума за междурегионално сътрудничество в Лил на 27 и 28.10.2008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резентации от семинара за органите, отговорни за първо ниво на контрол от 10.06.2008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Първо ниво на контрол съгл. чл. 16 от Регламент </a:t>
            </a:r>
            <a:r>
              <a:rPr b="0" i="1" lang="en-US" sz="1600" spc="-1" strike="noStrike">
                <a:solidFill>
                  <a:srgbClr val="00316e"/>
                </a:solidFill>
                <a:latin typeface="Arial"/>
              </a:rPr>
              <a:t>1080/2006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2"/>
              </a:rPr>
              <a:t>www.interreg4c.eu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Programme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Country specific information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FLC – decentralized system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Наръчник по програмата </a:t>
            </a:r>
            <a:r>
              <a:rPr b="0" i="1" lang="en-US" sz="1600" spc="-1" strike="noStrike">
                <a:solidFill>
                  <a:srgbClr val="00316e"/>
                </a:solidFill>
                <a:latin typeface="Arial"/>
              </a:rPr>
              <a:t>(Programme manual)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, актуализиран за втората покана за проектни предложения с включени насоки и стандартни документи за контрол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http://www.interreg4c.net/application.html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Система за първо ниво на контрол в България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децентрализирана система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844640"/>
            <a:ext cx="8064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тандартни документи прилагани при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децентрализирана система за контрол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www.interreg4c.eu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2"/>
              </a:rPr>
              <a:t>/</a:t>
            </a: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3"/>
              </a:rPr>
              <a:t>Programme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рган, отговорен за установяване на системата за контрол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ъгласно РМС 523/31.07.2007 г.: министърът  на регионалното развитие и благоустройството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писък с независими контрольори, публикуван на: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4"/>
              </a:rPr>
              <a:t>http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5"/>
              </a:rPr>
              <a:t>://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6"/>
              </a:rPr>
              <a:t>www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7"/>
              </a:rPr>
              <a:t>.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8"/>
              </a:rPr>
              <a:t>bgregio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9"/>
              </a:rPr>
              <a:t>.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0"/>
              </a:rPr>
              <a:t>eu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1"/>
              </a:rPr>
              <a:t>/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2"/>
              </a:rPr>
              <a:t>Content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3"/>
              </a:rPr>
              <a:t>.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4"/>
              </a:rPr>
              <a:t>aspx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5"/>
              </a:rPr>
              <a:t>?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6"/>
              </a:rPr>
              <a:t>menu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7"/>
              </a:rPr>
              <a:t>=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8"/>
              </a:rPr>
              <a:t>right&amp;pid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9"/>
              </a:rPr>
              <a:t>=56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За контакт: Главна дирекция “Програмиране на регионалното развитие”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цедура за избор на контрольор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205000"/>
            <a:ext cx="784836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Всеки български партньор в проект ще сключи договор за верификация на законността и редовността на декларираните разходи с контрольор, определен от МРРБ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асоки за българските партньори относно процедурата за определяне на контрольор - предстои да бъдат публикувани на: </a:t>
            </a: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www.bgregio.eu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INTERREG IVC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Новини</a:t>
            </a:r>
            <a:r>
              <a:rPr b="0" i="1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08:16Z</dcterms:created>
  <dc:creator>Administrator</dc:creator>
  <dc:description/>
  <dc:language>en-US</dc:language>
  <cp:lastModifiedBy>RangelovaI</cp:lastModifiedBy>
  <dcterms:modified xsi:type="dcterms:W3CDTF">2008-11-17T07:22:43Z</dcterms:modified>
  <cp:revision>167</cp:revision>
  <dc:subject/>
  <dc:title>Slide 1</dc:title>
</cp:coreProperties>
</file>