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63A-77C8-481D-B2BA-86587DA0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0EF-C22C-41DE-8362-A65ECF38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FFE-7D8E-4175-93EF-70BDABC2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486-323F-49BD-B1B6-78809F6E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B3F-F929-4686-BCE7-6AEBEE9B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32C-DCE0-45FE-8927-70421322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C14-E839-4341-B6E2-509A451D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9B1-4F6B-446B-8DB3-D63CA2DE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40D-F65D-4D54-88AB-679A8A67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347-8385-4C73-991E-A673842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54A-0C7D-4E42-BB67-0D9D1F52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322-E571-4D37-859E-72EE540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B51F-E75D-41E7-9ABB-6B1059634504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rangelova@mrrb.government.bg" TargetMode="External"/><Relationship Id="rId2" Type="http://schemas.openxmlformats.org/officeDocument/2006/relationships/hyperlink" Target="mailto:ahristova@mrrb.government.bg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666880"/>
            <a:ext cx="889308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ПРОГРАМА ЗА ТРАНСНАЦИОНАЛНО СЪТРУДНИЧЕСТВО В </a:t>
            </a:r>
            <a:r>
              <a:rPr b="1" lang="bg-BG" sz="2800" spc="-1" strike="noStrike">
                <a:solidFill>
                  <a:srgbClr val="002776"/>
                </a:solidFill>
                <a:latin typeface="Comic Sans MS"/>
              </a:rPr>
              <a:t>ЮГОИЗТОЧНА ЕВРОПА</a:t>
            </a: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2776"/>
                </a:solidFill>
                <a:latin typeface="Comic Sans MS"/>
              </a:rPr>
              <a:t>2007 –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58920" y="4941720"/>
            <a:ext cx="7543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Отд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”</a:t>
            </a: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Управление на териториалното сътрудничество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Главна Ди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76"/>
                </a:solidFill>
                <a:latin typeface="Comic Sans MS"/>
              </a:rPr>
              <a:t>“</a:t>
            </a: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2776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2776"/>
                </a:solidFill>
                <a:latin typeface="Comic Sans MS"/>
              </a:rPr>
              <a:t>МР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295280"/>
            <a:ext cx="8534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Национални звена за контакт са структурирани  и организирани във всяка страна, участваща в програмата - неразделна част от екипа за изпълнение на програмата</a:t>
            </a:r>
            <a:r>
              <a:rPr b="0" lang="ru-RU" sz="1400" spc="-1" strike="noStrike">
                <a:solidFill>
                  <a:srgbClr val="002776"/>
                </a:solidFill>
                <a:latin typeface="Comic Sans MS"/>
              </a:rPr>
              <a:t> –</a:t>
            </a:r>
            <a:r>
              <a:rPr b="0" i="1" lang="ru-RU" sz="14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4fee"/>
                </a:solidFill>
                <a:latin typeface="Comic Sans MS"/>
              </a:rPr>
              <a:t>СЪВМЕСТЕН ТЕХНИЧЕСКИ СЕКРЕТАРИАТ</a:t>
            </a:r>
            <a:r>
              <a:rPr b="0" i="1" lang="en-US" sz="1400" spc="-1" strike="noStrike">
                <a:solidFill>
                  <a:srgbClr val="004fee"/>
                </a:solidFill>
                <a:latin typeface="Comic Sans MS"/>
              </a:rPr>
              <a:t> </a:t>
            </a:r>
            <a:r>
              <a:rPr b="0" i="1" lang="ru-RU" sz="1400" spc="-1" strike="noStrike">
                <a:solidFill>
                  <a:srgbClr val="004fee"/>
                </a:solidFill>
                <a:latin typeface="Comic Sans MS"/>
              </a:rPr>
              <a:t>и НЗ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2776"/>
                </a:solidFill>
                <a:latin typeface="Comic Sans MS"/>
              </a:rPr>
              <a:t>Основна 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400" spc="-1" strike="noStrike">
                <a:solidFill>
                  <a:srgbClr val="002776"/>
                </a:solidFill>
                <a:latin typeface="Comic Sans MS"/>
              </a:rPr>
              <a:t>Представя програмата на национално ниво, като подпомага дейностите на СТС и служи като национално координационно звено при изпълнение на програ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002776"/>
                </a:solidFill>
                <a:latin typeface="Comic Sans MS"/>
              </a:rPr>
              <a:t>Основни за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редоставя информация на бенефициентите в процеса на генериране на проекти, кандидатстване и изпълнение на проект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Допринася за осъществяване на дейностите за информиране и публичност - организира национални информационни събития и подпомага СТС при изпълнение на транснационални информационни събития, семинари и сре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одпомага кандидатстващите по проекти при търсене на партньори - изпълнява ролята на звено за контакт с кандидатстващите по проекти и партньорите на националн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Съвместно със СТС установява и поддържа контакт с националните, регионални и местни заинтересовани стра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776"/>
                </a:solidFill>
                <a:latin typeface="Comic Sans MS"/>
              </a:rPr>
              <a:t>Предоставя информация за национални стратегически документи и правила пред органите на програм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143000" y="289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НАЦИОНАЛНО ЗВЕНО ЗА КОНТ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685800"/>
            <a:ext cx="7391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6b88c1"/>
                </a:solidFill>
                <a:latin typeface="Comic Sans MS"/>
              </a:rPr>
              <a:t>НАЦИОНАЛНО ЗВЕНО ЗА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Главна Ди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”</a:t>
            </a: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Отд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6b88c1"/>
                </a:solidFill>
                <a:latin typeface="Comic Sans MS"/>
              </a:rPr>
              <a:t>”</a:t>
            </a:r>
            <a:r>
              <a:rPr b="1" i="1" lang="bg-BG" sz="1800" spc="-1" strike="noStrike">
                <a:solidFill>
                  <a:srgbClr val="6b88c1"/>
                </a:solidFill>
                <a:latin typeface="Comic Sans MS"/>
              </a:rPr>
              <a:t>Управление на териториалното сътрудничество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+359 2 9405 405/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d96c9"/>
                </a:solidFill>
                <a:latin typeface="Comic Sans MS"/>
              </a:rPr>
              <a:t>irangel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d96c9"/>
                </a:solidFill>
                <a:latin typeface="Comic Sans MS"/>
              </a:rPr>
              <a:t>ahrist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429000" y="4786200"/>
            <a:ext cx="241776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295280"/>
            <a:ext cx="83059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ъ-финансирането на проектите се осигурява </a:t>
            </a:r>
            <a:r>
              <a:rPr b="0" i="1" lang="bg-BG" sz="2000" spc="-1" strike="noStrike">
                <a:solidFill>
                  <a:srgbClr val="002776"/>
                </a:solidFill>
                <a:latin typeface="Comic Sans MS"/>
              </a:rPr>
              <a:t>единствено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с публични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ъ-финансирането от ИПП и ЕФРР е 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лед одобряване на проекта от Комитета за Наблюдение всеки български партньор осигурява 15 % съ-финансиране чре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77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сключване на договор с МРРБ за предоставяне на средства за съ-финанс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77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- съ-финансиране с публични средства от друг изт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Предвижда се предоставяне на аванс до 20%</a:t>
            </a: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,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но само от  средствата за национално съ-финанси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60240" y="765000"/>
            <a:ext cx="44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НАЦИОНАЛНО СЪ-ФИНАНСИ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20348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А ПОКАНА ЗА ПРОЕКТНИ ПРЕДЛОЖЕНИЯ - 2008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b88c1"/>
                </a:solidFill>
                <a:latin typeface="Comic Sans MS"/>
              </a:rPr>
              <a:t>ПРЕДВАРИТЕЛЕН ГРАФ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549520"/>
          <a:ext cx="8359920" cy="3470040"/>
        </p:xfrm>
        <a:graphic>
          <a:graphicData uri="http://schemas.openxmlformats.org/drawingml/2006/table">
            <a:tbl>
              <a:tblPr/>
              <a:tblGrid>
                <a:gridCol w="1081080"/>
                <a:gridCol w="1079640"/>
                <a:gridCol w="1439640"/>
                <a:gridCol w="475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НАЧА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РОДЪЛЖ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ДЕЙНО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5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5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3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6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6 седмиц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ОКАНА ЗА ЗАЯВЛЕНИЕ ЗА ИНТЕ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29</a:t>
                      </a:r>
                      <a:r>
                        <a:rPr b="0" lang="bg-BG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.07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30</a:t>
                      </a:r>
                      <a:r>
                        <a:rPr b="0" lang="bg-BG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.07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РЕШЕНИЕ НА КН ЗА ОДОБРЕНИТЕ ПРОЕКТНИ ИД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</a:t>
                      </a: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6.</a:t>
                      </a: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0</a:t>
                      </a: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.08</a:t>
                      </a:r>
                      <a:r>
                        <a:rPr b="0" lang="bg-BG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9 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седмиц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ОКАНА ЗА ПОПЪЛВАНЕ НА ПЪЛЕН ФОРМУЛЯР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ЗА КАНДИДАТСТВ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01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2776"/>
                          </a:solidFill>
                          <a:uFillTx/>
                          <a:latin typeface="Comic Sans MS"/>
                        </a:rPr>
                        <a:t>02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РЕШЕНИЕ НА КН ЗА ОДОБРЕНИТЕ ПРОЕКТИ ЗА ФИНАНСИРАН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08.12.08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27.02.09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13 седмици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ПЕРИОД ЗА СКЛЮЧВАНЕ НА ДОГОВОРИТЕ ЗА ФИНАНСИРАНЕ</a:t>
                      </a:r>
                      <a:r>
                        <a:rPr b="0" lang="bg-BG" sz="1600" spc="-1" strike="noStrike">
                          <a:solidFill>
                            <a:srgbClr val="002776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812960"/>
            <a:ext cx="84582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Прилага се децентрализирана система на конт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Контрольорите са включени в предварително одобрен от министъра на регионалното развитие и благоустройството  </a:t>
            </a:r>
            <a:r>
              <a:rPr b="0" i="1" lang="bg-BG" sz="2000" spc="-1" strike="noStrike">
                <a:solidFill>
                  <a:srgbClr val="002776"/>
                </a:solidFill>
                <a:latin typeface="Comic Sans MS"/>
              </a:rPr>
              <a:t>списък от независими контроль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Орган, отговорен за съставяне на списъка от контрольори, оторизирани от министъра на регионалното развитие и благоустройство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6b88c1"/>
                </a:solidFill>
                <a:latin typeface="Comic Sans MS"/>
              </a:rPr>
              <a:t>Главна дирекция "Програмиране на регионалното развитие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6b88c1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64200" y="685800"/>
            <a:ext cx="52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О НИВО НА КОНТРОЛ В БЪЛГ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674720"/>
            <a:ext cx="8839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Всеки български партньор в проект финансиран по програма </a:t>
            </a:r>
            <a:r>
              <a:rPr b="0" lang="ru-RU" sz="2000" spc="-1" strike="noStrike">
                <a:solidFill>
                  <a:srgbClr val="002776"/>
                </a:solidFill>
                <a:latin typeface="Comic Sans MS"/>
              </a:rPr>
              <a:t>за ТНС в Югоизточна Европа </a:t>
            </a: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ще сключи договор за верификация на законността и редовността на декларираните разходи с контроль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Разходите за контрол ще бъдат за сметка на българския партнь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Разходите за контрол могат да бъдат включени в бюджета на проекта и докладвани като допустим разход за външна експерт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2776"/>
                </a:solidFill>
                <a:latin typeface="Comic Sans MS"/>
              </a:rPr>
              <a:t>Основание за плащане ще бъде договор за услуги между българския партньор и независимия контроль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464200" y="609480"/>
            <a:ext cx="52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76"/>
                </a:solidFill>
                <a:latin typeface="Comic Sans MS"/>
              </a:rPr>
              <a:t>ПЪРВО НИВО НА КОНТРОЛ В БЪЛГА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685800"/>
            <a:ext cx="73911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bg-BG" sz="2000" spc="-1" strike="noStrike">
                <a:solidFill>
                  <a:srgbClr val="000000"/>
                </a:solidFill>
                <a:latin typeface="Comic Sans MS"/>
              </a:rPr>
              <a:t>www.southeast-europ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СЪВМЕСТЕН ТЕХНИЧЕСКИ СЕКРЕТАРИ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omic Sans MS"/>
              </a:rPr>
              <a:t>see.jts@vati.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НАЦИОНАЛНО ЗВЕНО ЗА КОН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002776"/>
                </a:solidFill>
                <a:latin typeface="Comic Sans MS"/>
              </a:rPr>
              <a:t>Бълг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ГД ”Програмиране на регионалното развити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+359 2 9405 405/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irangel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ahristova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002776"/>
                </a:solidFill>
                <a:latin typeface="Comic Sans MS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12920" cy="890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96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733920" y="5334120"/>
            <a:ext cx="193680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6:05:06Z</dcterms:created>
  <dc:creator>PC</dc:creator>
  <dc:description/>
  <dc:language>en-US</dc:language>
  <cp:lastModifiedBy>BonchevaS</cp:lastModifiedBy>
  <dcterms:modified xsi:type="dcterms:W3CDTF">2008-05-21T12:54:51Z</dcterms:modified>
  <cp:revision>67</cp:revision>
  <dc:subject/>
  <dc:title>Slide 1</dc:title>
</cp:coreProperties>
</file>