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55F-7828-48EF-A0F8-06C492BC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9C2-E6B9-4985-A87C-AFE8997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C05-8418-4AED-ABA9-A4789BAF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C68-E675-4D34-A619-133B38C5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08C-A2D4-4D1D-AD52-50DFE53B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085-A85A-4F4E-AD8D-8194492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929-C314-4BE4-8333-CD70AB9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9E2-0A32-47F1-8D1E-3D6F691B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9B5-7F55-46B1-ADEE-6F03861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C05-2E18-4417-8C01-7BE690E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7AB-DAB2-4481-9EA7-B5FE4481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43D-2D2C-40DE-8E45-7F8DA747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3B9-CC62-4349-837A-865BFD85E09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rangelova@mrrb.government.bg" TargetMode="External"/><Relationship Id="rId2" Type="http://schemas.openxmlformats.org/officeDocument/2006/relationships/hyperlink" Target="mailto:ahristova@mrrb.government.b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66880"/>
            <a:ext cx="8893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ПРОГРАМА ЗА ТРАНСНАЦИОНАЛНО СЪТРУДНИЧЕСТВО В </a:t>
            </a:r>
            <a:r>
              <a:rPr b="1" lang="bg-BG" sz="2800" spc="-1" strike="noStrike">
                <a:solidFill>
                  <a:srgbClr val="002776"/>
                </a:solidFill>
                <a:latin typeface="Comic Sans MS"/>
              </a:rPr>
              <a:t>ЮГОИЗТОЧНА ЕВРОПА</a:t>
            </a: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2007 –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4941720"/>
            <a:ext cx="7543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”</a:t>
            </a: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Управление на териториалното сътрудничество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Главна Ди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76"/>
                </a:solidFill>
                <a:latin typeface="Comic Sans MS"/>
              </a:rPr>
              <a:t>“</a:t>
            </a: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2776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МР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95280"/>
            <a:ext cx="8534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Национални звена за контакт са структурирани  и организирани във всяка страна, участваща в програмата - неразделна част от екипа за изпълнение на програмата</a:t>
            </a:r>
            <a:r>
              <a:rPr b="0" lang="ru-RU" sz="1400" spc="-1" strike="noStrike">
                <a:solidFill>
                  <a:srgbClr val="002776"/>
                </a:solidFill>
                <a:latin typeface="Comic Sans MS"/>
              </a:rPr>
              <a:t> –</a:t>
            </a:r>
            <a:r>
              <a:rPr b="0" i="1" lang="ru-RU" sz="14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4fee"/>
                </a:solidFill>
                <a:latin typeface="Comic Sans MS"/>
              </a:rPr>
              <a:t>СЪВМЕСТЕН ТЕХНИЧЕСКИ СЕКРЕТАРИАТ</a:t>
            </a:r>
            <a:r>
              <a:rPr b="0" i="1" lang="en-US" sz="1400" spc="-1" strike="noStrike">
                <a:solidFill>
                  <a:srgbClr val="004fee"/>
                </a:solidFill>
                <a:latin typeface="Comic Sans MS"/>
              </a:rPr>
              <a:t> </a:t>
            </a:r>
            <a:r>
              <a:rPr b="0" i="1" lang="ru-RU" sz="1400" spc="-1" strike="noStrike">
                <a:solidFill>
                  <a:srgbClr val="004fee"/>
                </a:solidFill>
                <a:latin typeface="Comic Sans MS"/>
              </a:rPr>
              <a:t>и НЗ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2776"/>
                </a:solidFill>
                <a:latin typeface="Comic Sans MS"/>
              </a:rPr>
              <a:t>Основна 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2776"/>
                </a:solidFill>
                <a:latin typeface="Comic Sans MS"/>
              </a:rPr>
              <a:t>Представя програмата на национално ниво, като подпомага дейностите на СТС и служи като национално координационно звено при изпълнение на програ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2776"/>
                </a:solidFill>
                <a:latin typeface="Comic Sans MS"/>
              </a:rPr>
              <a:t>Основн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редоставя информация на бенефициентите в процеса на генериране на проекти, кандидатстване и изпълнение на проект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Допринася за осъществяване на дейностите за информиране и публичност - организира национални информационни събития и подпомага СТС при изпълнение на транснационални информационни събития, семинари и сре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одпомага кандидатстващите по проекти при търсене на партньори - изпълнява ролята на звено за контакт с кандидатстващите по проекти и партньорите на националн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Съвместно със СТС установява и поддържа контакт с националните, регионални и местни заинтересовани стр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редоставя информация за национални стратегически документи и правила пред органите на програ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289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НАЦИОНАЛНО ЗВЕНО ЗА КОНТ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685800"/>
            <a:ext cx="7391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6b88c1"/>
                </a:solidFill>
                <a:latin typeface="Comic Sans MS"/>
              </a:rPr>
              <a:t>НАЦИОНАЛНО ЗВЕНО ЗА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Главна Ди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”</a:t>
            </a: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6b88c1"/>
                </a:solidFill>
                <a:latin typeface="Comic Sans MS"/>
              </a:rPr>
              <a:t>”</a:t>
            </a:r>
            <a:r>
              <a:rPr b="1" i="1" lang="bg-BG" sz="1800" spc="-1" strike="noStrike">
                <a:solidFill>
                  <a:srgbClr val="6b88c1"/>
                </a:solidFill>
                <a:latin typeface="Comic Sans MS"/>
              </a:rPr>
              <a:t>Управление на териториалното сътрудничеств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+359 2 9405 405/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d96c9"/>
                </a:solidFill>
                <a:latin typeface="Comic Sans MS"/>
              </a:rPr>
              <a:t>irangel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d96c9"/>
                </a:solidFill>
                <a:latin typeface="Comic Sans MS"/>
              </a:rPr>
              <a:t>ahrist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4786200"/>
            <a:ext cx="24177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3059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ъ-финансирането на проектите се осигурява </a:t>
            </a:r>
            <a:r>
              <a:rPr b="0" i="1" lang="bg-BG" sz="2000" spc="-1" strike="noStrike">
                <a:solidFill>
                  <a:srgbClr val="002776"/>
                </a:solidFill>
                <a:latin typeface="Comic Sans MS"/>
              </a:rPr>
              <a:t>единствено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с публични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ъ-финансирането от ИПП и ЕФРР е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лед одобряване на проекта от Комитета за Наблюдение всеки български партньор осигурява 15 % съ-финансиране чр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77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ключване на договор с МРРБ за предоставяне на средства за съ-финанс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77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- съ-финансиране с публични средства от друг изт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Предвижда се предоставяне на аванс до 20%</a:t>
            </a: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,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но само от  средствата за национално съ-финанси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60240" y="765000"/>
            <a:ext cx="44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НАЦИОНАЛНО СЪ-ФИНАНС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20348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А ПОКАНА ЗА ПРОЕКТНИ ПРЕДЛОЖЕНИЯ - 2008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88c1"/>
                </a:solidFill>
                <a:latin typeface="Comic Sans MS"/>
              </a:rPr>
              <a:t>ПРЕДВАРИТЕЛЕН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549520"/>
          <a:ext cx="8359920" cy="347004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439640"/>
                <a:gridCol w="475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РОДЪЛ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ДЕ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5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5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6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6 седмиц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ОКАНА ЗА ЗАЯВЛЕНИЕ ЗА ИНТЕ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29</a:t>
                      </a:r>
                      <a:r>
                        <a:rPr b="0" lang="bg-BG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.07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30</a:t>
                      </a:r>
                      <a:r>
                        <a:rPr b="0" lang="bg-BG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.07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РЕШЕНИЕ НА КН ЗА ОДОБРЕНИТЕ ПРОЕКТНИ ИД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</a:t>
                      </a: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6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9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седми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ОКАНА ЗА ПОПЪЛВАНЕ НА ПЪЛЕН ФОРМУЛЯР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ЗА КАНДИДАТСТВ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01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02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РЕШЕНИЕ НА КН ЗА ОДОБРЕНИТЕ ПРОЕКТИ ЗА ФИНАНСИРА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27.02.09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3 седмици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ЕРИОД ЗА СКЛЮЧВАНЕ НА ДОГОВОРИТЕ ЗА ФИНАНСИРАНЕ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812960"/>
            <a:ext cx="84582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Прилага се децентрализирана система на конт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Контрольорите са включени в предварително одобрен от министъра на регионалното развитие и благоустройството  </a:t>
            </a:r>
            <a:r>
              <a:rPr b="0" i="1" lang="bg-BG" sz="2000" spc="-1" strike="noStrike">
                <a:solidFill>
                  <a:srgbClr val="002776"/>
                </a:solidFill>
                <a:latin typeface="Comic Sans MS"/>
              </a:rPr>
              <a:t>списък от независими контроль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Орган, отговорен за съставяне на списъка от контрольори, оторизирани от министъра на регионалното развитие и благоустройство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6b88c1"/>
                </a:solidFill>
                <a:latin typeface="Comic Sans MS"/>
              </a:rPr>
              <a:t>Главна дирекция "Програмиране на регионалното развит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6b88c1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64200" y="685800"/>
            <a:ext cx="52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О НИВО НА КОНТРОЛ В БЪЛГ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674720"/>
            <a:ext cx="883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Всеки български партньор в проект финансиран по програма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за ТНС в Югоизточна Европа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ще сключи договор за верификация на законността и редовността на декларираните разходи с контроль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Разходите за контрол ще бъдат за сметка на българския партнь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Разходите за контрол могат да бъдат включени в бюджета на проекта и докладвани като допустим разход за външна експерт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Основание за плащане ще бъде договор за услуги между българския партньор и независимия контроль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64200" y="609480"/>
            <a:ext cx="52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О НИВО НА КОНТРОЛ В БЪЛГ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685800"/>
            <a:ext cx="73911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www.southeast-europ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СЪВМЕСТЕН ТЕХНИЧЕСКИ СЕКРЕТАРИ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mic Sans MS"/>
              </a:rPr>
              <a:t>see.jts@vati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НАЦИОНАЛНО ЗВЕНО ЗА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ГД ”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+359 2 9405 405/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rangel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hrist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33920" y="5334120"/>
            <a:ext cx="1936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6:05:06Z</dcterms:created>
  <dc:creator>PC</dc:creator>
  <dc:description/>
  <dc:language>en-US</dc:language>
  <cp:lastModifiedBy>BonchevaS</cp:lastModifiedBy>
  <dcterms:modified xsi:type="dcterms:W3CDTF">2008-05-21T12:54:51Z</dcterms:modified>
  <cp:revision>67</cp:revision>
  <dc:subject/>
  <dc:title>Slide 1</dc:title>
</cp:coreProperties>
</file>